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gif" ContentType="image/gif"/>
  <Override PartName="/ppt/media/image25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73.png" ContentType="image/png"/>
  <Override PartName="/ppt/media/image24.png" ContentType="image/png"/>
  <Override PartName="/ppt/media/image61.png" ContentType="image/png"/>
  <Override PartName="/ppt/media/image72.gif" ContentType="image/gif"/>
  <Override PartName="/ppt/media/image65.png" ContentType="image/png"/>
  <Override PartName="/ppt/media/image27.png" ContentType="image/png"/>
  <Override PartName="/ppt/media/image33.jpeg" ContentType="image/jpe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67.png" ContentType="image/png"/>
  <Override PartName="/ppt/media/image64.png" ContentType="image/png"/>
  <Override PartName="/ppt/media/image60.jpeg" ContentType="image/jpeg"/>
  <Override PartName="/ppt/media/image30.png" ContentType="image/png"/>
  <Override PartName="/ppt/media/image66.png" ContentType="image/png"/>
  <Override PartName="/ppt/media/image15.png" ContentType="image/png"/>
  <Override PartName="/ppt/media/image3.png" ContentType="image/png"/>
  <Override PartName="/ppt/media/image26.png" ContentType="image/png"/>
  <Override PartName="/ppt/media/image63.png" ContentType="image/png"/>
  <Override PartName="/ppt/media/image16.png" ContentType="image/png"/>
  <Override PartName="/ppt/media/image4.png" ContentType="image/png"/>
  <Override PartName="/ppt/media/image17.png" ContentType="image/png"/>
  <Override PartName="/ppt/media/image5.png" ContentType="image/png"/>
  <Override PartName="/ppt/media/image10.png" ContentType="image/png"/>
  <Override PartName="/ppt/media/image35.jpeg" ContentType="image/jpe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62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F323-2323-4982-8D34-2241A17BD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BC74-F992-4847-A166-DC98B992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7950-0EF4-4578-AC9B-0398F18A3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4D6C-9D1B-4AB3-8665-B23C98780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44CF-1863-49A2-979F-EC3A1166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7081-2B28-4147-800C-C33C7AE4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8CD2-0C85-42BD-91B5-CF70EEFA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3F5E-2F82-4EB2-8935-F2DEDD29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E6DF-27D9-45EB-8464-D5E2CFE4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2557-3DF8-4DFE-8D0C-DC86E058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34B9-9A6F-477E-B741-91736B2D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2EC7-F068-4DE6-A7D9-3E7E8CEB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75D6-82EF-476E-A00A-48CA58B0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26B2-922D-4419-B12B-506FC109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BC28-5CCC-406C-BADA-F5F52336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79BB-8727-4726-A11D-EA29036AD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EDB6-2FB9-483E-94F7-9F1C2E8F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ECD54-BB55-4075-A6B3-1960428C5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EDD8C-351B-41E8-98EE-ED979034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25A17-6619-4329-93A0-BF4F3A79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75762-5D78-4DAD-B04C-B939589A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D6CF3-2811-40A0-8DB1-CCA376DE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CCBD-39C4-4851-AD2E-3B6EADB0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49556-5DF0-40F5-A882-6721F04E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8F2B4-9542-4CEB-9DA2-682EB5FF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FE350-14A4-466A-AA4C-F263139A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6A475-E8E6-4417-BAD6-8C89C6DE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F31CA-BC18-4C55-AF95-10C1D702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EC2DE-893B-4A8E-AE1E-56437D909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00137-9246-4F53-A54F-1EEE74635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FF684-14D2-49E4-B4AF-AE2480242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6E32C-3A0C-464F-8FA8-C547017E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99B4A-8387-4BCD-8B14-CB50FCA8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BF77-5E53-4E64-B2AD-5778FBA2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2812F-B6B2-4224-8EAD-C4018C16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00389-E1DE-4A38-9F4A-84A72D9D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0ECD2-4F07-4EC7-9344-22792F1E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BA667-3D95-4C4B-A0B5-2D43B04F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24745-3BC4-41E8-A4B1-B20224AE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C5C53-1FD7-43AB-8E1D-48F7A973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89E98-4FD8-44F5-8A4C-624002DA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87ECB-D950-475E-ADB0-C0302A5E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5B225-3F1A-452E-B53B-58B993D3D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1869-2354-4E74-80B1-AFCC41C2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BD43-5B3D-4078-9A5D-CBE159D2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7E45-B3DD-44F4-A942-FE5A0F31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D478-6EC6-46D2-AC5A-A508F7F0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31CE-1780-427F-B263-463C003C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3.xml"/><Relationship Id="rId25" Type="http://schemas.openxmlformats.org/officeDocument/2006/relationships/slideLayout" Target="../slideLayouts/slideLayout14.xml"/><Relationship Id="rId26" Type="http://schemas.openxmlformats.org/officeDocument/2006/relationships/slideLayout" Target="../slideLayouts/slideLayout15.xml"/><Relationship Id="rId27" Type="http://schemas.openxmlformats.org/officeDocument/2006/relationships/slideLayout" Target="../slideLayouts/slideLayout16.xml"/><Relationship Id="rId28" Type="http://schemas.openxmlformats.org/officeDocument/2006/relationships/slideLayout" Target="../slideLayouts/slideLayout17.xml"/><Relationship Id="rId29" Type="http://schemas.openxmlformats.org/officeDocument/2006/relationships/slideLayout" Target="../slideLayouts/slideLayout18.xml"/><Relationship Id="rId30" Type="http://schemas.openxmlformats.org/officeDocument/2006/relationships/slideLayout" Target="../slideLayouts/slideLayout19.xml"/><Relationship Id="rId31" Type="http://schemas.openxmlformats.org/officeDocument/2006/relationships/slideLayout" Target="../slideLayouts/slideLayout20.xml"/><Relationship Id="rId32" Type="http://schemas.openxmlformats.org/officeDocument/2006/relationships/slideLayout" Target="../slideLayouts/slideLayout21.xml"/><Relationship Id="rId33" Type="http://schemas.openxmlformats.org/officeDocument/2006/relationships/slideLayout" Target="../slideLayouts/slideLayout22.xml"/><Relationship Id="rId34" Type="http://schemas.openxmlformats.org/officeDocument/2006/relationships/slideLayout" Target="../slideLayouts/slideLayout23.xml"/><Relationship Id="rId3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25.xml"/><Relationship Id="rId33" Type="http://schemas.openxmlformats.org/officeDocument/2006/relationships/slideLayout" Target="../slideLayouts/slideLayout26.xml"/><Relationship Id="rId34" Type="http://schemas.openxmlformats.org/officeDocument/2006/relationships/slideLayout" Target="../slideLayouts/slideLayout27.xml"/><Relationship Id="rId35" Type="http://schemas.openxmlformats.org/officeDocument/2006/relationships/slideLayout" Target="../slideLayouts/slideLayout28.xml"/><Relationship Id="rId36" Type="http://schemas.openxmlformats.org/officeDocument/2006/relationships/slideLayout" Target="../slideLayouts/slideLayout29.xml"/><Relationship Id="rId37" Type="http://schemas.openxmlformats.org/officeDocument/2006/relationships/slideLayout" Target="../slideLayouts/slideLayout30.xml"/><Relationship Id="rId38" Type="http://schemas.openxmlformats.org/officeDocument/2006/relationships/slideLayout" Target="../slideLayouts/slideLayout31.xml"/><Relationship Id="rId39" Type="http://schemas.openxmlformats.org/officeDocument/2006/relationships/slideLayout" Target="../slideLayouts/slideLayout32.xml"/><Relationship Id="rId40" Type="http://schemas.openxmlformats.org/officeDocument/2006/relationships/slideLayout" Target="../slideLayouts/slideLayout33.xml"/><Relationship Id="rId41" Type="http://schemas.openxmlformats.org/officeDocument/2006/relationships/slideLayout" Target="../slideLayouts/slideLayout34.xml"/><Relationship Id="rId42" Type="http://schemas.openxmlformats.org/officeDocument/2006/relationships/slideLayout" Target="../slideLayouts/slideLayout35.xml"/><Relationship Id="rId4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37.xml"/><Relationship Id="rId33" Type="http://schemas.openxmlformats.org/officeDocument/2006/relationships/slideLayout" Target="../slideLayouts/slideLayout38.xml"/><Relationship Id="rId34" Type="http://schemas.openxmlformats.org/officeDocument/2006/relationships/slideLayout" Target="../slideLayouts/slideLayout39.xml"/><Relationship Id="rId35" Type="http://schemas.openxmlformats.org/officeDocument/2006/relationships/slideLayout" Target="../slideLayouts/slideLayout40.xml"/><Relationship Id="rId36" Type="http://schemas.openxmlformats.org/officeDocument/2006/relationships/slideLayout" Target="../slideLayouts/slideLayout41.xml"/><Relationship Id="rId37" Type="http://schemas.openxmlformats.org/officeDocument/2006/relationships/slideLayout" Target="../slideLayouts/slideLayout42.xml"/><Relationship Id="rId38" Type="http://schemas.openxmlformats.org/officeDocument/2006/relationships/slideLayout" Target="../slideLayouts/slideLayout43.xml"/><Relationship Id="rId39" Type="http://schemas.openxmlformats.org/officeDocument/2006/relationships/slideLayout" Target="../slideLayouts/slideLayout44.xml"/><Relationship Id="rId40" Type="http://schemas.openxmlformats.org/officeDocument/2006/relationships/slideLayout" Target="../slideLayouts/slideLayout45.xml"/><Relationship Id="rId41" Type="http://schemas.openxmlformats.org/officeDocument/2006/relationships/slideLayout" Target="../slideLayouts/slideLayout46.xml"/><Relationship Id="rId42" Type="http://schemas.openxmlformats.org/officeDocument/2006/relationships/slideLayout" Target="../slideLayouts/slideLayout47.xml"/><Relationship Id="rId4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ecff"/>
            </a:gs>
            <a:gs pos="100000">
              <a:srgbClr val="7196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4ff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3E0B-8A00-4422-A3A9-10D28A9D2B98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ecff"/>
            </a:gs>
            <a:gs pos="100000">
              <a:srgbClr val="7196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4ff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marL="301680" indent="-3016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1" marL="653760" indent="-2512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2" marL="100584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3" marL="140796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4" marL="181044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5" marL="1810440" indent="-200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6" marL="1810440" indent="-200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1E2D-3982-4B4C-9E68-5B48F11C57EB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4"/>
    <p:sldLayoutId id="2147483663" r:id="rId25"/>
    <p:sldLayoutId id="2147483664" r:id="rId26"/>
    <p:sldLayoutId id="2147483665" r:id="rId27"/>
    <p:sldLayoutId id="2147483666" r:id="rId28"/>
    <p:sldLayoutId id="2147483667" r:id="rId29"/>
    <p:sldLayoutId id="2147483668" r:id="rId30"/>
    <p:sldLayoutId id="2147483669" r:id="rId31"/>
    <p:sldLayoutId id="2147483670" r:id="rId32"/>
    <p:sldLayoutId id="2147483671" r:id="rId33"/>
    <p:sldLayoutId id="2147483672" r:id="rId34"/>
    <p:sldLayoutId id="2147483673" r:id="rId3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ecff"/>
            </a:gs>
            <a:gs pos="100000">
              <a:srgbClr val="7196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37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138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4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145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4ff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48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4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55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63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164" name="Oval 31"/>
            <p:cNvGrpSpPr/>
            <p:nvPr/>
          </p:nvGrpSpPr>
          <p:grpSpPr>
            <a:xfrm>
              <a:off x="5460840" y="1424880"/>
              <a:ext cx="1105200" cy="1099080"/>
              <a:chOff x="5460840" y="1424880"/>
              <a:chExt cx="1105200" cy="1099080"/>
            </a:xfrm>
          </p:grpSpPr>
          <p:pic>
            <p:nvPicPr>
              <p:cNvPr id="165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0840" y="1424880"/>
                <a:ext cx="11052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"/>
              <p:cNvSpPr/>
              <p:nvPr/>
            </p:nvSpPr>
            <p:spPr>
              <a:xfrm>
                <a:off x="5638320" y="1601640"/>
                <a:ext cx="74916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7" name="Oval 32"/>
            <p:cNvGrpSpPr/>
            <p:nvPr/>
          </p:nvGrpSpPr>
          <p:grpSpPr>
            <a:xfrm>
              <a:off x="5627160" y="1401120"/>
              <a:ext cx="855720" cy="844920"/>
              <a:chOff x="5627160" y="1401120"/>
              <a:chExt cx="855720" cy="844920"/>
            </a:xfrm>
          </p:grpSpPr>
          <p:pic>
            <p:nvPicPr>
              <p:cNvPr id="168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7160" y="1401120"/>
                <a:ext cx="85572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"/>
              <p:cNvSpPr/>
              <p:nvPr/>
            </p:nvSpPr>
            <p:spPr>
              <a:xfrm>
                <a:off x="5768640" y="1540800"/>
                <a:ext cx="57276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0" name="Oval 28"/>
            <p:cNvGrpSpPr/>
            <p:nvPr/>
          </p:nvGrpSpPr>
          <p:grpSpPr>
            <a:xfrm>
              <a:off x="5247000" y="1868040"/>
              <a:ext cx="629640" cy="626400"/>
              <a:chOff x="5247000" y="1868040"/>
              <a:chExt cx="629640" cy="626400"/>
            </a:xfrm>
          </p:grpSpPr>
          <p:pic>
            <p:nvPicPr>
              <p:cNvPr id="171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7000" y="1868040"/>
                <a:ext cx="62964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"/>
              <p:cNvSpPr/>
              <p:nvPr/>
            </p:nvSpPr>
            <p:spPr>
              <a:xfrm>
                <a:off x="5351760" y="1976400"/>
                <a:ext cx="41508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3" name="Oval 30"/>
            <p:cNvGrpSpPr/>
            <p:nvPr/>
          </p:nvGrpSpPr>
          <p:grpSpPr>
            <a:xfrm>
              <a:off x="5407200" y="1791360"/>
              <a:ext cx="522720" cy="514080"/>
              <a:chOff x="5407200" y="1791360"/>
              <a:chExt cx="522720" cy="514080"/>
            </a:xfrm>
          </p:grpSpPr>
          <p:pic>
            <p:nvPicPr>
              <p:cNvPr id="174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7200" y="1791360"/>
                <a:ext cx="5227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"/>
              <p:cNvSpPr/>
              <p:nvPr/>
            </p:nvSpPr>
            <p:spPr>
              <a:xfrm>
                <a:off x="5499000" y="1879920"/>
                <a:ext cx="337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6" name="Oval 27"/>
            <p:cNvGrpSpPr/>
            <p:nvPr/>
          </p:nvGrpSpPr>
          <p:grpSpPr>
            <a:xfrm>
              <a:off x="4718160" y="2051280"/>
              <a:ext cx="297000" cy="295200"/>
              <a:chOff x="4718160" y="2051280"/>
              <a:chExt cx="297000" cy="295200"/>
            </a:xfrm>
          </p:grpSpPr>
          <p:pic>
            <p:nvPicPr>
              <p:cNvPr id="177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128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>
                <a:off x="4778280" y="21103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9" name="Oval 29"/>
            <p:cNvGrpSpPr/>
            <p:nvPr/>
          </p:nvGrpSpPr>
          <p:grpSpPr>
            <a:xfrm>
              <a:off x="6096600" y="993600"/>
              <a:ext cx="297000" cy="295200"/>
              <a:chOff x="6096600" y="993600"/>
              <a:chExt cx="297000" cy="295200"/>
            </a:xfrm>
          </p:grpSpPr>
          <p:pic>
            <p:nvPicPr>
              <p:cNvPr id="180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6600" y="99360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>
                <a:off x="6156360" y="10537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2" name="Oval 33"/>
            <p:cNvGrpSpPr/>
            <p:nvPr/>
          </p:nvGrpSpPr>
          <p:grpSpPr>
            <a:xfrm>
              <a:off x="5050800" y="1868040"/>
              <a:ext cx="237600" cy="236160"/>
              <a:chOff x="5050800" y="1868040"/>
              <a:chExt cx="237600" cy="236160"/>
            </a:xfrm>
          </p:grpSpPr>
          <p:pic>
            <p:nvPicPr>
              <p:cNvPr id="183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0800" y="1868040"/>
                <a:ext cx="23760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"/>
              <p:cNvSpPr/>
              <p:nvPr/>
            </p:nvSpPr>
            <p:spPr>
              <a:xfrm>
                <a:off x="5101920" y="19188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5" name="Oval 34"/>
            <p:cNvGrpSpPr/>
            <p:nvPr/>
          </p:nvGrpSpPr>
          <p:grpSpPr>
            <a:xfrm>
              <a:off x="6114600" y="1064520"/>
              <a:ext cx="237600" cy="230400"/>
              <a:chOff x="6114600" y="1064520"/>
              <a:chExt cx="237600" cy="230400"/>
            </a:xfrm>
          </p:grpSpPr>
          <p:pic>
            <p:nvPicPr>
              <p:cNvPr id="186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4600" y="1064520"/>
                <a:ext cx="237600" cy="23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6164280" y="11106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7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8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9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0851-6AF0-43E3-94C6-BE3A4B2CB70E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2"/>
    <p:sldLayoutId id="2147483676" r:id="rId33"/>
    <p:sldLayoutId id="2147483677" r:id="rId34"/>
    <p:sldLayoutId id="2147483678" r:id="rId35"/>
    <p:sldLayoutId id="2147483679" r:id="rId36"/>
    <p:sldLayoutId id="2147483680" r:id="rId37"/>
    <p:sldLayoutId id="2147483681" r:id="rId38"/>
    <p:sldLayoutId id="2147483682" r:id="rId39"/>
    <p:sldLayoutId id="2147483683" r:id="rId40"/>
    <p:sldLayoutId id="2147483684" r:id="rId41"/>
    <p:sldLayoutId id="2147483685" r:id="rId42"/>
    <p:sldLayoutId id="2147483686" r:id="rId4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ecff"/>
            </a:gs>
            <a:gs pos="100000">
              <a:srgbClr val="7196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230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31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7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238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4ff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241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7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248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6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257" name="Oval 31"/>
            <p:cNvGrpSpPr/>
            <p:nvPr/>
          </p:nvGrpSpPr>
          <p:grpSpPr>
            <a:xfrm>
              <a:off x="5460840" y="1424880"/>
              <a:ext cx="1105200" cy="1099080"/>
              <a:chOff x="5460840" y="1424880"/>
              <a:chExt cx="1105200" cy="1099080"/>
            </a:xfrm>
          </p:grpSpPr>
          <p:pic>
            <p:nvPicPr>
              <p:cNvPr id="258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0840" y="1424880"/>
                <a:ext cx="11052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5638320" y="1601640"/>
                <a:ext cx="74916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0" name="Oval 32"/>
            <p:cNvGrpSpPr/>
            <p:nvPr/>
          </p:nvGrpSpPr>
          <p:grpSpPr>
            <a:xfrm>
              <a:off x="5627160" y="1401120"/>
              <a:ext cx="855720" cy="844920"/>
              <a:chOff x="5627160" y="1401120"/>
              <a:chExt cx="855720" cy="844920"/>
            </a:xfrm>
          </p:grpSpPr>
          <p:pic>
            <p:nvPicPr>
              <p:cNvPr id="261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7160" y="1401120"/>
                <a:ext cx="85572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>
                <a:off x="5768640" y="1540800"/>
                <a:ext cx="57276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3" name="Oval 28"/>
            <p:cNvGrpSpPr/>
            <p:nvPr/>
          </p:nvGrpSpPr>
          <p:grpSpPr>
            <a:xfrm>
              <a:off x="5247000" y="1868040"/>
              <a:ext cx="629640" cy="626400"/>
              <a:chOff x="5247000" y="1868040"/>
              <a:chExt cx="629640" cy="626400"/>
            </a:xfrm>
          </p:grpSpPr>
          <p:pic>
            <p:nvPicPr>
              <p:cNvPr id="264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7000" y="1868040"/>
                <a:ext cx="62964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"/>
              <p:cNvSpPr/>
              <p:nvPr/>
            </p:nvSpPr>
            <p:spPr>
              <a:xfrm>
                <a:off x="5351760" y="1976400"/>
                <a:ext cx="41508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6" name="Oval 30"/>
            <p:cNvGrpSpPr/>
            <p:nvPr/>
          </p:nvGrpSpPr>
          <p:grpSpPr>
            <a:xfrm>
              <a:off x="5407200" y="1791360"/>
              <a:ext cx="522720" cy="514080"/>
              <a:chOff x="5407200" y="1791360"/>
              <a:chExt cx="522720" cy="514080"/>
            </a:xfrm>
          </p:grpSpPr>
          <p:pic>
            <p:nvPicPr>
              <p:cNvPr id="267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7200" y="1791360"/>
                <a:ext cx="5227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"/>
              <p:cNvSpPr/>
              <p:nvPr/>
            </p:nvSpPr>
            <p:spPr>
              <a:xfrm>
                <a:off x="5499000" y="1879920"/>
                <a:ext cx="337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9" name="Oval 27"/>
            <p:cNvGrpSpPr/>
            <p:nvPr/>
          </p:nvGrpSpPr>
          <p:grpSpPr>
            <a:xfrm>
              <a:off x="4718160" y="2051280"/>
              <a:ext cx="297000" cy="295200"/>
              <a:chOff x="4718160" y="2051280"/>
              <a:chExt cx="297000" cy="295200"/>
            </a:xfrm>
          </p:grpSpPr>
          <p:pic>
            <p:nvPicPr>
              <p:cNvPr id="270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128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4778280" y="21103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2" name="Oval 29"/>
            <p:cNvGrpSpPr/>
            <p:nvPr/>
          </p:nvGrpSpPr>
          <p:grpSpPr>
            <a:xfrm>
              <a:off x="6096600" y="993600"/>
              <a:ext cx="297000" cy="295200"/>
              <a:chOff x="6096600" y="993600"/>
              <a:chExt cx="297000" cy="295200"/>
            </a:xfrm>
          </p:grpSpPr>
          <p:pic>
            <p:nvPicPr>
              <p:cNvPr id="273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6600" y="99360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6156360" y="10537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5" name="Oval 33"/>
            <p:cNvGrpSpPr/>
            <p:nvPr/>
          </p:nvGrpSpPr>
          <p:grpSpPr>
            <a:xfrm>
              <a:off x="5050800" y="1868040"/>
              <a:ext cx="237600" cy="236160"/>
              <a:chOff x="5050800" y="1868040"/>
              <a:chExt cx="237600" cy="236160"/>
            </a:xfrm>
          </p:grpSpPr>
          <p:pic>
            <p:nvPicPr>
              <p:cNvPr id="276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0800" y="1868040"/>
                <a:ext cx="23760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"/>
              <p:cNvSpPr/>
              <p:nvPr/>
            </p:nvSpPr>
            <p:spPr>
              <a:xfrm>
                <a:off x="5101920" y="19188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8" name="Oval 34"/>
            <p:cNvGrpSpPr/>
            <p:nvPr/>
          </p:nvGrpSpPr>
          <p:grpSpPr>
            <a:xfrm>
              <a:off x="6114600" y="1064520"/>
              <a:ext cx="237600" cy="230400"/>
              <a:chOff x="6114600" y="1064520"/>
              <a:chExt cx="237600" cy="230400"/>
            </a:xfrm>
          </p:grpSpPr>
          <p:pic>
            <p:nvPicPr>
              <p:cNvPr id="279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4600" y="1064520"/>
                <a:ext cx="237600" cy="23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"/>
              <p:cNvSpPr/>
              <p:nvPr/>
            </p:nvSpPr>
            <p:spPr>
              <a:xfrm>
                <a:off x="6164280" y="11106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marL="301680" indent="-3016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1" marL="653760" indent="-2512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2" marL="100584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3" marL="140796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4" marL="181044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5" marL="1810440" indent="-200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6" marL="1810440" indent="-200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0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1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2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C74A-CA5C-4B78-9893-1A712EA16443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2"/>
    <p:sldLayoutId id="2147483689" r:id="rId33"/>
    <p:sldLayoutId id="2147483690" r:id="rId34"/>
    <p:sldLayoutId id="2147483691" r:id="rId35"/>
    <p:sldLayoutId id="2147483692" r:id="rId36"/>
    <p:sldLayoutId id="2147483693" r:id="rId37"/>
    <p:sldLayoutId id="2147483694" r:id="rId38"/>
    <p:sldLayoutId id="2147483695" r:id="rId39"/>
    <p:sldLayoutId id="2147483696" r:id="rId40"/>
    <p:sldLayoutId id="2147483697" r:id="rId41"/>
    <p:sldLayoutId id="2147483698" r:id="rId42"/>
    <p:sldLayoutId id="2147483699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55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2.gif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2.gif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0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16000" y="676080"/>
            <a:ext cx="7416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Химия  любви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23" name="Рисунок 6" descr="Это Я - сентябрь 2012.JPG"/>
          <p:cNvPicPr/>
          <p:nvPr/>
        </p:nvPicPr>
        <p:blipFill>
          <a:blip r:embed="rId2"/>
          <a:stretch/>
        </p:blipFill>
        <p:spPr>
          <a:xfrm>
            <a:off x="642960" y="3000240"/>
            <a:ext cx="1731960" cy="2597400"/>
          </a:xfrm>
          <a:prstGeom prst="rect">
            <a:avLst/>
          </a:prstGeom>
          <a:ln w="0">
            <a:noFill/>
          </a:ln>
        </p:spPr>
      </p:pic>
      <p:sp>
        <p:nvSpPr>
          <p:cNvPr id="324" name="Прямоугольник 3"/>
          <p:cNvSpPr/>
          <p:nvPr/>
        </p:nvSpPr>
        <p:spPr>
          <a:xfrm>
            <a:off x="2643120" y="3143160"/>
            <a:ext cx="621504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95959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Яковлев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дежда Валентинов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95959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595959"/>
                </a:solidFill>
                <a:latin typeface="Arial"/>
                <a:ea typeface="Arial"/>
              </a:rPr>
              <a:t>Учитель химии ГБОУ СОШ № 422 Кронштадтского райо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TextBox 5"/>
          <p:cNvSpPr/>
          <p:nvPr/>
        </p:nvSpPr>
        <p:spPr>
          <a:xfrm>
            <a:off x="3286080" y="5783400"/>
            <a:ext cx="264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Санкт-Петербур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201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Рисунок 7" descr="Палитра художника 2.jpeg"/>
          <p:cNvPicPr/>
          <p:nvPr/>
        </p:nvPicPr>
        <p:blipFill>
          <a:blip r:embed="rId2"/>
          <a:stretch/>
        </p:blipFill>
        <p:spPr>
          <a:xfrm>
            <a:off x="2895480" y="2146320"/>
            <a:ext cx="3432240" cy="2425680"/>
          </a:xfrm>
          <a:prstGeom prst="rect">
            <a:avLst/>
          </a:prstGeom>
          <a:ln w="0">
            <a:noFill/>
          </a:ln>
        </p:spPr>
      </p:pic>
      <p:grpSp>
        <p:nvGrpSpPr>
          <p:cNvPr id="447" name="Овал 1"/>
          <p:cNvGrpSpPr/>
          <p:nvPr/>
        </p:nvGrpSpPr>
        <p:grpSpPr>
          <a:xfrm>
            <a:off x="4108320" y="822240"/>
            <a:ext cx="1067040" cy="1000080"/>
            <a:chOff x="4108320" y="822240"/>
            <a:chExt cx="1067040" cy="1000080"/>
          </a:xfrm>
        </p:grpSpPr>
        <p:pic>
          <p:nvPicPr>
            <p:cNvPr id="448" name="Овал 1" descr=""/>
            <p:cNvPicPr/>
            <p:nvPr/>
          </p:nvPicPr>
          <p:blipFill>
            <a:blip r:embed="rId3"/>
            <a:stretch/>
          </p:blipFill>
          <p:spPr>
            <a:xfrm>
              <a:off x="4108320" y="822240"/>
              <a:ext cx="1067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4289400" y="99360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Verdana"/>
                </a:rPr>
                <a:t>!</a:t>
              </a:r>
              <a:endParaRPr b="0" lang="en-US" sz="6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50" name="Овал 2"/>
          <p:cNvGrpSpPr/>
          <p:nvPr/>
        </p:nvGrpSpPr>
        <p:grpSpPr>
          <a:xfrm>
            <a:off x="4108320" y="5035680"/>
            <a:ext cx="1067040" cy="1000080"/>
            <a:chOff x="4108320" y="5035680"/>
            <a:chExt cx="1067040" cy="1000080"/>
          </a:xfrm>
        </p:grpSpPr>
        <p:pic>
          <p:nvPicPr>
            <p:cNvPr id="451" name="Овал 2" descr=""/>
            <p:cNvPicPr/>
            <p:nvPr/>
          </p:nvPicPr>
          <p:blipFill>
            <a:blip r:embed="rId4"/>
            <a:stretch/>
          </p:blipFill>
          <p:spPr>
            <a:xfrm>
              <a:off x="4108320" y="5035680"/>
              <a:ext cx="1067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4289400" y="520848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53" name="Овал 3"/>
          <p:cNvGrpSpPr/>
          <p:nvPr/>
        </p:nvGrpSpPr>
        <p:grpSpPr>
          <a:xfrm>
            <a:off x="1962000" y="1962000"/>
            <a:ext cx="1073160" cy="1000440"/>
            <a:chOff x="1962000" y="1962000"/>
            <a:chExt cx="1073160" cy="1000440"/>
          </a:xfrm>
        </p:grpSpPr>
        <p:pic>
          <p:nvPicPr>
            <p:cNvPr id="454" name="Овал 3" descr=""/>
            <p:cNvPicPr/>
            <p:nvPr/>
          </p:nvPicPr>
          <p:blipFill>
            <a:blip r:embed="rId5"/>
            <a:stretch/>
          </p:blipFill>
          <p:spPr>
            <a:xfrm>
              <a:off x="1962000" y="1962000"/>
              <a:ext cx="107316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2146320" y="213660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56" name="Овал 4"/>
          <p:cNvGrpSpPr/>
          <p:nvPr/>
        </p:nvGrpSpPr>
        <p:grpSpPr>
          <a:xfrm>
            <a:off x="6254640" y="1895400"/>
            <a:ext cx="1067040" cy="993960"/>
            <a:chOff x="6254640" y="1895400"/>
            <a:chExt cx="1067040" cy="993960"/>
          </a:xfrm>
        </p:grpSpPr>
        <p:pic>
          <p:nvPicPr>
            <p:cNvPr id="457" name="Овал 4" descr=""/>
            <p:cNvPicPr/>
            <p:nvPr/>
          </p:nvPicPr>
          <p:blipFill>
            <a:blip r:embed="rId6"/>
            <a:stretch/>
          </p:blipFill>
          <p:spPr>
            <a:xfrm>
              <a:off x="6254640" y="1895400"/>
              <a:ext cx="10670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6432480" y="2065320"/>
              <a:ext cx="70812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59" name="Овал 5"/>
          <p:cNvGrpSpPr/>
          <p:nvPr/>
        </p:nvGrpSpPr>
        <p:grpSpPr>
          <a:xfrm>
            <a:off x="1962000" y="3895560"/>
            <a:ext cx="1073160" cy="1000440"/>
            <a:chOff x="1962000" y="3895560"/>
            <a:chExt cx="1073160" cy="1000440"/>
          </a:xfrm>
        </p:grpSpPr>
        <p:pic>
          <p:nvPicPr>
            <p:cNvPr id="460" name="Овал 5" descr=""/>
            <p:cNvPicPr/>
            <p:nvPr/>
          </p:nvPicPr>
          <p:blipFill>
            <a:blip r:embed="rId7"/>
            <a:stretch/>
          </p:blipFill>
          <p:spPr>
            <a:xfrm>
              <a:off x="1962000" y="3895560"/>
              <a:ext cx="107316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2146320" y="406548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Verdana"/>
                </a:rPr>
                <a:t>!</a:t>
              </a:r>
              <a:endParaRPr b="0" lang="en-US" sz="6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2" name="Овал 6"/>
          <p:cNvGrpSpPr/>
          <p:nvPr/>
        </p:nvGrpSpPr>
        <p:grpSpPr>
          <a:xfrm>
            <a:off x="6254640" y="3895560"/>
            <a:ext cx="1067040" cy="1000440"/>
            <a:chOff x="6254640" y="3895560"/>
            <a:chExt cx="1067040" cy="1000440"/>
          </a:xfrm>
        </p:grpSpPr>
        <p:pic>
          <p:nvPicPr>
            <p:cNvPr id="463" name="Овал 6" descr=""/>
            <p:cNvPicPr/>
            <p:nvPr/>
          </p:nvPicPr>
          <p:blipFill>
            <a:blip r:embed="rId8"/>
            <a:stretch/>
          </p:blipFill>
          <p:spPr>
            <a:xfrm>
              <a:off x="6254640" y="3895560"/>
              <a:ext cx="106704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6432480" y="406548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Verdana"/>
                </a:rPr>
                <a:t>!</a:t>
              </a: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cxnSp>
        <p:nvCxnSpPr>
          <p:cNvPr id="465" name="Прямая со стрелкой 20"/>
          <p:cNvCxnSpPr/>
          <p:nvPr/>
        </p:nvCxnSpPr>
        <p:spPr>
          <a:xfrm flipV="1">
            <a:off x="2498760" y="2928600"/>
            <a:ext cx="2160" cy="100224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66" name="Прямая со стрелкой 22"/>
          <p:cNvCxnSpPr/>
          <p:nvPr/>
        </p:nvCxnSpPr>
        <p:spPr>
          <a:xfrm flipH="1">
            <a:off x="2854080" y="1320840"/>
            <a:ext cx="1289520" cy="81648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67" name="Прямая со стрелкой 24"/>
          <p:cNvCxnSpPr/>
          <p:nvPr/>
        </p:nvCxnSpPr>
        <p:spPr>
          <a:xfrm>
            <a:off x="5143680" y="1320840"/>
            <a:ext cx="1289520" cy="74520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68" name="Прямая со стрелкой 26"/>
          <p:cNvCxnSpPr/>
          <p:nvPr/>
        </p:nvCxnSpPr>
        <p:spPr>
          <a:xfrm flipV="1">
            <a:off x="6786720" y="2857680"/>
            <a:ext cx="2160" cy="107316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69" name="Прямая со стрелкой 28"/>
          <p:cNvCxnSpPr/>
          <p:nvPr/>
        </p:nvCxnSpPr>
        <p:spPr>
          <a:xfrm flipH="1">
            <a:off x="5143320" y="4721400"/>
            <a:ext cx="1289520" cy="81648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70" name="Прямая со стрелкой 30"/>
          <p:cNvCxnSpPr/>
          <p:nvPr/>
        </p:nvCxnSpPr>
        <p:spPr>
          <a:xfrm>
            <a:off x="2854440" y="4721400"/>
            <a:ext cx="1289520" cy="81648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471" name="TextBox 25"/>
          <p:cNvSpPr/>
          <p:nvPr/>
        </p:nvSpPr>
        <p:spPr>
          <a:xfrm>
            <a:off x="2143080" y="71280"/>
            <a:ext cx="4857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Эро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ихийная, восторженна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TextBox 27"/>
          <p:cNvSpPr/>
          <p:nvPr/>
        </p:nvSpPr>
        <p:spPr>
          <a:xfrm>
            <a:off x="1500120" y="5965920"/>
            <a:ext cx="6286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агм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ассудочная, реалистичная, практична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TextBox 29"/>
          <p:cNvSpPr/>
          <p:nvPr/>
        </p:nvSpPr>
        <p:spPr>
          <a:xfrm>
            <a:off x="71280" y="1228680"/>
            <a:ext cx="22147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вязчивая, болезненная стра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TextBox 31"/>
          <p:cNvSpPr/>
          <p:nvPr/>
        </p:nvSpPr>
        <p:spPr>
          <a:xfrm>
            <a:off x="0" y="4643280"/>
            <a:ext cx="242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юду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юбовь–иг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TextBox 32"/>
          <p:cNvSpPr/>
          <p:nvPr/>
        </p:nvSpPr>
        <p:spPr>
          <a:xfrm>
            <a:off x="6215040" y="4714920"/>
            <a:ext cx="3000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торгэ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юбовь–неж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TextBox 33"/>
          <p:cNvSpPr/>
          <p:nvPr/>
        </p:nvSpPr>
        <p:spPr>
          <a:xfrm>
            <a:off x="6929280" y="1071720"/>
            <a:ext cx="235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гапэ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жертвенная, бескорыстна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TextBox 3" descr=""/>
          <p:cNvPicPr/>
          <p:nvPr/>
        </p:nvPicPr>
        <p:blipFill>
          <a:blip r:embed="rId1"/>
          <a:stretch/>
        </p:blipFill>
        <p:spPr>
          <a:xfrm>
            <a:off x="212760" y="85680"/>
            <a:ext cx="8791560" cy="1523880"/>
          </a:xfrm>
          <a:prstGeom prst="rect">
            <a:avLst/>
          </a:prstGeom>
          <a:ln w="0">
            <a:noFill/>
          </a:ln>
        </p:spPr>
      </p:pic>
      <p:sp>
        <p:nvSpPr>
          <p:cNvPr id="478" name="Цилиндр 26"/>
          <p:cNvSpPr/>
          <p:nvPr/>
        </p:nvSpPr>
        <p:spPr>
          <a:xfrm>
            <a:off x="7358040" y="3857760"/>
            <a:ext cx="571680" cy="142848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Цилиндр 27"/>
          <p:cNvSpPr/>
          <p:nvPr/>
        </p:nvSpPr>
        <p:spPr>
          <a:xfrm>
            <a:off x="1214280" y="3929040"/>
            <a:ext cx="571680" cy="142884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Цилиндр 28"/>
          <p:cNvSpPr/>
          <p:nvPr/>
        </p:nvSpPr>
        <p:spPr>
          <a:xfrm>
            <a:off x="7358040" y="5143680"/>
            <a:ext cx="571680" cy="1428480"/>
          </a:xfrm>
          <a:prstGeom prst="can">
            <a:avLst>
              <a:gd name="adj" fmla="val 10000"/>
            </a:avLst>
          </a:prstGeom>
          <a:solidFill>
            <a:srgbClr val="ff990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Цилиндр 29"/>
          <p:cNvSpPr/>
          <p:nvPr/>
        </p:nvSpPr>
        <p:spPr>
          <a:xfrm>
            <a:off x="1214280" y="5214960"/>
            <a:ext cx="571680" cy="1428840"/>
          </a:xfrm>
          <a:prstGeom prst="can">
            <a:avLst>
              <a:gd name="adj" fmla="val 10000"/>
            </a:avLst>
          </a:prstGeom>
          <a:solidFill>
            <a:srgbClr val="ffcc66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TextBox 12"/>
          <p:cNvSpPr/>
          <p:nvPr/>
        </p:nvSpPr>
        <p:spPr>
          <a:xfrm>
            <a:off x="0" y="1868400"/>
            <a:ext cx="9144000" cy="12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FeCl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Verdana"/>
                <a:ea typeface="Calibr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 + 3 NaOH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 Fe(OH)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Verdana"/>
                <a:ea typeface="Calibr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 + 3 NaC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Fe</a:t>
            </a:r>
            <a:r>
              <a:rPr b="1" lang="ru-RU" sz="3200" spc="-1" strike="noStrike" baseline="30000">
                <a:solidFill>
                  <a:srgbClr val="000000"/>
                </a:solidFill>
                <a:latin typeface="Verdana"/>
                <a:ea typeface="Calibri"/>
              </a:rPr>
              <a:t>3+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Calibri"/>
              </a:rPr>
              <a:t> + 3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OH</a:t>
            </a:r>
            <a:r>
              <a:rPr b="1" lang="ru-RU" sz="3200" spc="-1" strike="noStrike" baseline="30000">
                <a:solidFill>
                  <a:srgbClr val="000000"/>
                </a:solidFill>
                <a:latin typeface="Verdana"/>
                <a:ea typeface="Calibri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 Fe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Calibr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OH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Calibri"/>
              </a:rPr>
              <a:t>)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Verdana"/>
                <a:ea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Стрелка вправо 22"/>
          <p:cNvSpPr/>
          <p:nvPr/>
        </p:nvSpPr>
        <p:spPr>
          <a:xfrm>
            <a:off x="3500280" y="5072040"/>
            <a:ext cx="2509920" cy="27612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Стрелка углом 24"/>
          <p:cNvSpPr/>
          <p:nvPr/>
        </p:nvSpPr>
        <p:spPr>
          <a:xfrm rot="5400000">
            <a:off x="785160" y="3357360"/>
            <a:ext cx="571680" cy="1143000"/>
          </a:xfrm>
          <a:custGeom>
            <a:avLst/>
            <a:gdLst/>
            <a:ahLst/>
            <a:rect l="l" t="t" r="r" b="b"/>
            <a:pathLst>
              <a:path w="571500" h="1143000">
                <a:moveTo>
                  <a:pt x="0" y="1143000"/>
                </a:moveTo>
                <a:lnTo>
                  <a:pt x="0" y="321469"/>
                </a:lnTo>
                <a:cubicBezTo>
                  <a:pt x="0" y="183381"/>
                  <a:pt x="111943" y="71438"/>
                  <a:pt x="250031" y="71438"/>
                </a:cubicBezTo>
                <a:lnTo>
                  <a:pt x="419515" y="71438"/>
                </a:lnTo>
                <a:lnTo>
                  <a:pt x="419515" y="0"/>
                </a:lnTo>
                <a:lnTo>
                  <a:pt x="571500" y="142875"/>
                </a:lnTo>
                <a:lnTo>
                  <a:pt x="419515" y="285750"/>
                </a:lnTo>
                <a:lnTo>
                  <a:pt x="419515" y="214313"/>
                </a:lnTo>
                <a:lnTo>
                  <a:pt x="250031" y="214313"/>
                </a:lnTo>
                <a:cubicBezTo>
                  <a:pt x="190850" y="214313"/>
                  <a:pt x="142875" y="262288"/>
                  <a:pt x="142875" y="321469"/>
                </a:cubicBezTo>
                <a:lnTo>
                  <a:pt x="142875" y="1143000"/>
                </a:lnTo>
                <a:lnTo>
                  <a:pt x="0" y="1143000"/>
                </a:lnTo>
                <a:close/>
              </a:path>
            </a:pathLst>
          </a:custGeom>
          <a:solidFill>
            <a:srgbClr val="262626"/>
          </a:solidFill>
          <a:ln cap="rnd" w="1908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TextBox 30"/>
          <p:cNvSpPr/>
          <p:nvPr/>
        </p:nvSpPr>
        <p:spPr>
          <a:xfrm>
            <a:off x="1928880" y="5929200"/>
            <a:ext cx="200016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FeCl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Verdana"/>
                <a:ea typeface="Calibr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TextBox 31"/>
          <p:cNvSpPr/>
          <p:nvPr/>
        </p:nvSpPr>
        <p:spPr>
          <a:xfrm>
            <a:off x="5143680" y="5857920"/>
            <a:ext cx="1857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TextBox 33"/>
          <p:cNvSpPr/>
          <p:nvPr/>
        </p:nvSpPr>
        <p:spPr>
          <a:xfrm>
            <a:off x="4714920" y="4143240"/>
            <a:ext cx="1500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Стрелка вниз 35"/>
          <p:cNvSpPr/>
          <p:nvPr/>
        </p:nvSpPr>
        <p:spPr>
          <a:xfrm>
            <a:off x="7000920" y="5857920"/>
            <a:ext cx="2142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990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Box 36"/>
          <p:cNvSpPr/>
          <p:nvPr/>
        </p:nvSpPr>
        <p:spPr>
          <a:xfrm>
            <a:off x="0" y="292896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NaO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0" name="TextBox 18" descr=""/>
          <p:cNvPicPr/>
          <p:nvPr/>
        </p:nvPicPr>
        <p:blipFill>
          <a:blip r:embed="rId2"/>
          <a:stretch/>
        </p:blipFill>
        <p:spPr>
          <a:xfrm>
            <a:off x="4846680" y="5705640"/>
            <a:ext cx="2303280" cy="860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TextBox 3" descr=""/>
          <p:cNvPicPr/>
          <p:nvPr/>
        </p:nvPicPr>
        <p:blipFill>
          <a:blip r:embed="rId1"/>
          <a:stretch/>
        </p:blipFill>
        <p:spPr>
          <a:xfrm>
            <a:off x="182520" y="85680"/>
            <a:ext cx="9004320" cy="1523880"/>
          </a:xfrm>
          <a:prstGeom prst="rect">
            <a:avLst/>
          </a:prstGeom>
          <a:ln w="0">
            <a:noFill/>
          </a:ln>
        </p:spPr>
      </p:pic>
      <p:sp>
        <p:nvSpPr>
          <p:cNvPr id="492" name="Цилиндр 26"/>
          <p:cNvSpPr/>
          <p:nvPr/>
        </p:nvSpPr>
        <p:spPr>
          <a:xfrm>
            <a:off x="7358040" y="3857760"/>
            <a:ext cx="571680" cy="142848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Цилиндр 27"/>
          <p:cNvSpPr/>
          <p:nvPr/>
        </p:nvSpPr>
        <p:spPr>
          <a:xfrm>
            <a:off x="1214280" y="3929040"/>
            <a:ext cx="571680" cy="142884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Цилиндр 28"/>
          <p:cNvSpPr/>
          <p:nvPr/>
        </p:nvSpPr>
        <p:spPr>
          <a:xfrm>
            <a:off x="7358040" y="5143680"/>
            <a:ext cx="571680" cy="1428480"/>
          </a:xfrm>
          <a:prstGeom prst="can">
            <a:avLst>
              <a:gd name="adj" fmla="val 10000"/>
            </a:avLst>
          </a:prstGeom>
          <a:solidFill>
            <a:srgbClr val="00b05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Цилиндр 29"/>
          <p:cNvSpPr/>
          <p:nvPr/>
        </p:nvSpPr>
        <p:spPr>
          <a:xfrm>
            <a:off x="1214280" y="5214960"/>
            <a:ext cx="571680" cy="1428840"/>
          </a:xfrm>
          <a:prstGeom prst="can">
            <a:avLst>
              <a:gd name="adj" fmla="val 10000"/>
            </a:avLst>
          </a:prstGeom>
          <a:solidFill>
            <a:srgbClr val="ffcc66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12"/>
          <p:cNvSpPr/>
          <p:nvPr/>
        </p:nvSpPr>
        <p:spPr>
          <a:xfrm>
            <a:off x="285840" y="1714680"/>
            <a:ext cx="857232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e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+ 2 NaOH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Fe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+ 2 NaC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e</a:t>
            </a:r>
            <a:r>
              <a:rPr b="1" lang="ru-RU" sz="32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+ 2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H</a:t>
            </a:r>
            <a:r>
              <a:rPr b="1" lang="ru-RU" sz="32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Fe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H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Стрелка вправо 22"/>
          <p:cNvSpPr/>
          <p:nvPr/>
        </p:nvSpPr>
        <p:spPr>
          <a:xfrm>
            <a:off x="3500280" y="5072040"/>
            <a:ext cx="2509920" cy="27612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Стрелка углом 24"/>
          <p:cNvSpPr/>
          <p:nvPr/>
        </p:nvSpPr>
        <p:spPr>
          <a:xfrm rot="5400000">
            <a:off x="785160" y="3357360"/>
            <a:ext cx="571680" cy="1143000"/>
          </a:xfrm>
          <a:custGeom>
            <a:avLst/>
            <a:gdLst/>
            <a:ahLst/>
            <a:rect l="l" t="t" r="r" b="b"/>
            <a:pathLst>
              <a:path w="571500" h="1143000">
                <a:moveTo>
                  <a:pt x="0" y="1143000"/>
                </a:moveTo>
                <a:lnTo>
                  <a:pt x="0" y="321469"/>
                </a:lnTo>
                <a:cubicBezTo>
                  <a:pt x="0" y="183381"/>
                  <a:pt x="111943" y="71438"/>
                  <a:pt x="250031" y="71438"/>
                </a:cubicBezTo>
                <a:lnTo>
                  <a:pt x="419515" y="71438"/>
                </a:lnTo>
                <a:lnTo>
                  <a:pt x="419515" y="0"/>
                </a:lnTo>
                <a:lnTo>
                  <a:pt x="571500" y="142875"/>
                </a:lnTo>
                <a:lnTo>
                  <a:pt x="419515" y="285750"/>
                </a:lnTo>
                <a:lnTo>
                  <a:pt x="419515" y="214313"/>
                </a:lnTo>
                <a:lnTo>
                  <a:pt x="250031" y="214313"/>
                </a:lnTo>
                <a:cubicBezTo>
                  <a:pt x="190850" y="214313"/>
                  <a:pt x="142875" y="262288"/>
                  <a:pt x="142875" y="321469"/>
                </a:cubicBezTo>
                <a:lnTo>
                  <a:pt x="142875" y="1143000"/>
                </a:lnTo>
                <a:lnTo>
                  <a:pt x="0" y="1143000"/>
                </a:lnTo>
                <a:close/>
              </a:path>
            </a:pathLst>
          </a:custGeom>
          <a:solidFill>
            <a:srgbClr val="262626"/>
          </a:solidFill>
          <a:ln cap="rnd" w="1908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928880" y="5929200"/>
            <a:ext cx="2000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Fe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5143680" y="5857920"/>
            <a:ext cx="1857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TextBox 33"/>
          <p:cNvSpPr/>
          <p:nvPr/>
        </p:nvSpPr>
        <p:spPr>
          <a:xfrm>
            <a:off x="4714920" y="4143240"/>
            <a:ext cx="1500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Стрелка вниз 35"/>
          <p:cNvSpPr/>
          <p:nvPr/>
        </p:nvSpPr>
        <p:spPr>
          <a:xfrm>
            <a:off x="7000920" y="5857920"/>
            <a:ext cx="2142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00b05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TextBox 36"/>
          <p:cNvSpPr/>
          <p:nvPr/>
        </p:nvSpPr>
        <p:spPr>
          <a:xfrm>
            <a:off x="214200" y="292896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NaO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4" name="TextBox 18" descr=""/>
          <p:cNvPicPr/>
          <p:nvPr/>
        </p:nvPicPr>
        <p:blipFill>
          <a:blip r:embed="rId2"/>
          <a:stretch/>
        </p:blipFill>
        <p:spPr>
          <a:xfrm>
            <a:off x="4632480" y="5705640"/>
            <a:ext cx="2304720" cy="860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15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Любовь  как  притяжение 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506" name="Рисунок 8" descr="5 видов любви. Классификация психологов "/>
          <p:cNvPicPr/>
          <p:nvPr/>
        </p:nvPicPr>
        <p:blipFill>
          <a:blip r:embed="rId2"/>
          <a:stretch/>
        </p:blipFill>
        <p:spPr>
          <a:xfrm>
            <a:off x="1952640" y="2381400"/>
            <a:ext cx="5238720" cy="4190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7196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Рисунок 9" descr="http://www.sev-chem.narod.ru/Different/love.files/image002.gif"/>
          <p:cNvPicPr/>
          <p:nvPr/>
        </p:nvPicPr>
        <p:blipFill>
          <a:blip r:embed="rId1"/>
          <a:stretch/>
        </p:blipFill>
        <p:spPr>
          <a:xfrm>
            <a:off x="209520" y="2500200"/>
            <a:ext cx="2290680" cy="1000080"/>
          </a:xfrm>
          <a:prstGeom prst="rect">
            <a:avLst/>
          </a:prstGeom>
          <a:ln w="0">
            <a:noFill/>
          </a:ln>
        </p:spPr>
      </p:pic>
      <p:sp>
        <p:nvSpPr>
          <p:cNvPr id="508" name="TextBox 10"/>
          <p:cNvSpPr/>
          <p:nvPr/>
        </p:nvSpPr>
        <p:spPr>
          <a:xfrm>
            <a:off x="2714760" y="2500200"/>
            <a:ext cx="6286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2-фенилэтиламин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- «Вещество любви» синтезируется в организме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а начальном периоде возникновения чувства любв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11"/>
          <p:cNvSpPr/>
          <p:nvPr/>
        </p:nvSpPr>
        <p:spPr>
          <a:xfrm>
            <a:off x="357120" y="3643200"/>
            <a:ext cx="857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Эндорфин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 - «гормоны радости». По мнению некоторых ученых, за развитие последующей влюбленности ответственны эндорфины, т.е. это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«молекулы долговременных любовных отношений»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14"/>
          <p:cNvSpPr/>
          <p:nvPr/>
        </p:nvSpPr>
        <p:spPr>
          <a:xfrm>
            <a:off x="2714760" y="201600"/>
            <a:ext cx="3714480" cy="581400"/>
          </a:xfrm>
          <a:prstGeom prst="rect">
            <a:avLst/>
          </a:prstGeom>
          <a:gradFill rotWithShape="0">
            <a:gsLst>
              <a:gs pos="0">
                <a:srgbClr val="ffe2bd"/>
              </a:gs>
              <a:gs pos="100000">
                <a:srgbClr val="bd8907"/>
              </a:gs>
            </a:gsLst>
            <a:lin ang="5400000"/>
          </a:gradFill>
          <a:ln cap="rnd"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щества любв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16"/>
          <p:cNvSpPr/>
          <p:nvPr/>
        </p:nvSpPr>
        <p:spPr>
          <a:xfrm>
            <a:off x="214200" y="1100160"/>
            <a:ext cx="2071800" cy="398880"/>
          </a:xfrm>
          <a:prstGeom prst="rect">
            <a:avLst/>
          </a:prstGeom>
          <a:gradFill rotWithShape="0">
            <a:gsLst>
              <a:gs pos="0">
                <a:srgbClr val="ffe2bd"/>
              </a:gs>
              <a:gs pos="100000">
                <a:srgbClr val="bd8907"/>
              </a:gs>
            </a:gsLst>
            <a:lin ang="5400000"/>
          </a:gradFill>
          <a:ln cap="rnd"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мфетами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17"/>
          <p:cNvSpPr/>
          <p:nvPr/>
        </p:nvSpPr>
        <p:spPr>
          <a:xfrm>
            <a:off x="2000160" y="1814400"/>
            <a:ext cx="2071800" cy="398880"/>
          </a:xfrm>
          <a:prstGeom prst="rect">
            <a:avLst/>
          </a:prstGeom>
          <a:gradFill rotWithShape="0">
            <a:gsLst>
              <a:gs pos="0">
                <a:srgbClr val="ffe2bd"/>
              </a:gs>
              <a:gs pos="100000">
                <a:srgbClr val="bd8907"/>
              </a:gs>
            </a:gsLst>
            <a:lin ang="5400000"/>
          </a:gradFill>
          <a:ln cap="rnd"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еромо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18"/>
          <p:cNvSpPr/>
          <p:nvPr/>
        </p:nvSpPr>
        <p:spPr>
          <a:xfrm>
            <a:off x="5643720" y="1814400"/>
            <a:ext cx="2071440" cy="398880"/>
          </a:xfrm>
          <a:prstGeom prst="rect">
            <a:avLst/>
          </a:prstGeom>
          <a:gradFill rotWithShape="0">
            <a:gsLst>
              <a:gs pos="0">
                <a:srgbClr val="ffe2bd"/>
              </a:gs>
              <a:gs pos="100000">
                <a:srgbClr val="bd8907"/>
              </a:gs>
            </a:gsLst>
            <a:lin ang="5400000"/>
          </a:gradFill>
          <a:ln cap="rnd"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фродизиа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19"/>
          <p:cNvSpPr/>
          <p:nvPr/>
        </p:nvSpPr>
        <p:spPr>
          <a:xfrm>
            <a:off x="3571920" y="1071720"/>
            <a:ext cx="2071800" cy="398880"/>
          </a:xfrm>
          <a:prstGeom prst="rect">
            <a:avLst/>
          </a:prstGeom>
          <a:gradFill rotWithShape="0">
            <a:gsLst>
              <a:gs pos="0">
                <a:srgbClr val="ffe2bd"/>
              </a:gs>
              <a:gs pos="100000">
                <a:srgbClr val="bd8907"/>
              </a:gs>
            </a:gsLst>
            <a:lin ang="5400000"/>
          </a:gradFill>
          <a:ln cap="rnd"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ндорфи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0"/>
          <p:cNvSpPr/>
          <p:nvPr/>
        </p:nvSpPr>
        <p:spPr>
          <a:xfrm>
            <a:off x="6643800" y="1071720"/>
            <a:ext cx="2071440" cy="398880"/>
          </a:xfrm>
          <a:prstGeom prst="rect">
            <a:avLst/>
          </a:prstGeom>
          <a:gradFill rotWithShape="0">
            <a:gsLst>
              <a:gs pos="0">
                <a:srgbClr val="ffe2bd"/>
              </a:gs>
              <a:gs pos="100000">
                <a:srgbClr val="bd8907"/>
              </a:gs>
            </a:gsLst>
            <a:lin ang="5400000"/>
          </a:gradFill>
          <a:ln cap="rnd"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кситоци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2"/>
          <p:cNvSpPr/>
          <p:nvPr/>
        </p:nvSpPr>
        <p:spPr>
          <a:xfrm>
            <a:off x="357120" y="5149800"/>
            <a:ext cx="857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Окситоцины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синтезируется в гипоталамусе. Существует гипотеза, что окситоцин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ызывает чувство вер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8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2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6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Рисунок 4" descr="муж и жен начало 3.jpeg"/>
          <p:cNvPicPr/>
          <p:nvPr/>
        </p:nvPicPr>
        <p:blipFill>
          <a:blip r:embed="rId2"/>
          <a:stretch/>
        </p:blipFill>
        <p:spPr>
          <a:xfrm>
            <a:off x="2214720" y="800280"/>
            <a:ext cx="4635360" cy="227160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 txBox="1"/>
          <p:nvPr/>
        </p:nvSpPr>
        <p:spPr>
          <a:xfrm>
            <a:off x="6572160" y="2714760"/>
            <a:ext cx="257184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9" name="TextBox 9"/>
          <p:cNvSpPr/>
          <p:nvPr/>
        </p:nvSpPr>
        <p:spPr>
          <a:xfrm>
            <a:off x="6858000" y="2954160"/>
            <a:ext cx="2428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ланг – илан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озмари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ро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ергамо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о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типгрей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Жасми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альмаро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10"/>
          <p:cNvSpPr/>
          <p:nvPr/>
        </p:nvSpPr>
        <p:spPr>
          <a:xfrm>
            <a:off x="428760" y="3000240"/>
            <a:ext cx="221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Кед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ачу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анд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Кориц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Муска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Имбир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ос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Ветив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11"/>
          <p:cNvSpPr/>
          <p:nvPr/>
        </p:nvSpPr>
        <p:spPr>
          <a:xfrm>
            <a:off x="3500280" y="3668760"/>
            <a:ext cx="2786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рейпфру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аванд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айное дере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лисс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я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иал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12"/>
          <p:cNvSpPr/>
          <p:nvPr/>
        </p:nvSpPr>
        <p:spPr>
          <a:xfrm>
            <a:off x="428760" y="1546200"/>
            <a:ext cx="142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ля не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13"/>
          <p:cNvSpPr/>
          <p:nvPr/>
        </p:nvSpPr>
        <p:spPr>
          <a:xfrm>
            <a:off x="7215120" y="1546200"/>
            <a:ext cx="142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ля неё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14"/>
          <p:cNvSpPr/>
          <p:nvPr/>
        </p:nvSpPr>
        <p:spPr>
          <a:xfrm>
            <a:off x="2071800" y="304812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ля него и для неё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18"/>
          <p:cNvSpPr/>
          <p:nvPr/>
        </p:nvSpPr>
        <p:spPr>
          <a:xfrm>
            <a:off x="500040" y="130320"/>
            <a:ext cx="807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фродизиаки – ароматы любв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11"/>
          <p:cNvSpPr/>
          <p:nvPr/>
        </p:nvSpPr>
        <p:spPr>
          <a:xfrm>
            <a:off x="857160" y="628668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мпозиция любв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86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0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294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4"/>
          <p:cNvSpPr/>
          <p:nvPr/>
        </p:nvSpPr>
        <p:spPr>
          <a:xfrm>
            <a:off x="1187280" y="2858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«Шесть шляп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1187280" y="10000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(Эдвард де Боно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9" name="Picture 11" descr="Жёлтая шляпа"/>
          <p:cNvPicPr/>
          <p:nvPr/>
        </p:nvPicPr>
        <p:blipFill>
          <a:blip r:embed="rId2"/>
          <a:stretch/>
        </p:blipFill>
        <p:spPr>
          <a:xfrm>
            <a:off x="1071720" y="4187880"/>
            <a:ext cx="3119400" cy="188424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12"/>
          <p:cNvSpPr/>
          <p:nvPr/>
        </p:nvSpPr>
        <p:spPr>
          <a:xfrm>
            <a:off x="5075280" y="3860640"/>
            <a:ext cx="36399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Arial"/>
              </a:rPr>
              <a:t>Жёлтая шляпа</a:t>
            </a:r>
            <a:r>
              <a:rPr b="1" lang="ru-RU" sz="1800" spc="-1" strike="noStrike">
                <a:solidFill>
                  <a:srgbClr val="ffff00"/>
                </a:solidFill>
                <a:latin typeface="Verdana"/>
                <a:ea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солнечный, жизнеутверждающий цвет. Она полна оптимизма, под ней живёт надежда и позитивное мышлен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1" name="Conjure_Moon.mp3" descr=""/>
          <p:cNvPicPr/>
          <p:nvPr/>
        </p:nvPicPr>
        <p:blipFill>
          <a:blip r:embed="rId3"/>
          <a:stretch/>
        </p:blipFill>
        <p:spPr>
          <a:xfrm>
            <a:off x="214200" y="62866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9" descr="Красная шляпа"/>
          <p:cNvPicPr/>
          <p:nvPr/>
        </p:nvPicPr>
        <p:blipFill>
          <a:blip r:embed="rId4"/>
          <a:stretch/>
        </p:blipFill>
        <p:spPr>
          <a:xfrm>
            <a:off x="5167440" y="1714680"/>
            <a:ext cx="3119400" cy="1884240"/>
          </a:xfrm>
          <a:prstGeom prst="rect">
            <a:avLst/>
          </a:prstGeom>
          <a:ln w="0">
            <a:noFill/>
          </a:ln>
        </p:spPr>
      </p:pic>
      <p:sp>
        <p:nvSpPr>
          <p:cNvPr id="533" name="Text Box 7"/>
          <p:cNvSpPr/>
          <p:nvPr/>
        </p:nvSpPr>
        <p:spPr>
          <a:xfrm>
            <a:off x="857160" y="1785960"/>
            <a:ext cx="3384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0b05"/>
                </a:solidFill>
                <a:latin typeface="Verdana"/>
                <a:ea typeface="Arial"/>
              </a:rPr>
              <a:t>Красная шляпа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символ восприятия действительности на уровне чувств. В ней можно отдать себя во власть эмоц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6" dur="1" fill="hold"/>
                                        <p:tgtEl>
                                          <p:spTgt spid="5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3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8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3450"/>
                            </p:stCondLst>
                            <p:childTnLst>
                              <p:par>
                                <p:cTn id="31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395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950"/>
                            </p:stCondLst>
                            <p:childTnLst>
                              <p:par>
                                <p:cTn id="3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6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6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6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1222200" y="27792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«Шесть шляп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1187280" y="85716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(Эдвард де Боно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428760" y="1643040"/>
            <a:ext cx="338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Чёрная шляпа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 – чёрный цвет мрачный, зловещий, словом – недобрый. Это критика, доходящая до въедлив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7" name="Picture 8" descr="Чёрная шляпа"/>
          <p:cNvPicPr/>
          <p:nvPr/>
        </p:nvPicPr>
        <p:blipFill>
          <a:blip r:embed="rId2"/>
          <a:stretch/>
        </p:blipFill>
        <p:spPr>
          <a:xfrm>
            <a:off x="4809960" y="1714680"/>
            <a:ext cx="3119760" cy="18842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6" descr="Зелёная шляпа"/>
          <p:cNvPicPr/>
          <p:nvPr/>
        </p:nvPicPr>
        <p:blipFill>
          <a:blip r:embed="rId3"/>
          <a:stretch/>
        </p:blipFill>
        <p:spPr>
          <a:xfrm>
            <a:off x="785880" y="4143240"/>
            <a:ext cx="3119400" cy="188604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9"/>
          <p:cNvSpPr/>
          <p:nvPr/>
        </p:nvSpPr>
        <p:spPr>
          <a:xfrm>
            <a:off x="4714920" y="4071960"/>
            <a:ext cx="338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Verdana"/>
                <a:ea typeface="Arial"/>
              </a:rPr>
              <a:t>Зелёная шляпа</a:t>
            </a:r>
            <a:r>
              <a:rPr b="1" lang="ru-RU" sz="1800" spc="-1" strike="noStrike">
                <a:solidFill>
                  <a:srgbClr val="006600"/>
                </a:solidFill>
                <a:latin typeface="Verdana"/>
                <a:ea typeface="Arial"/>
              </a:rPr>
              <a:t> -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символ свежей листвы, изобилия и плодородия. Она символизирует творческое начало и рассвет новых иде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3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55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9" nodeType="afterEffect" fill="hold" presetClass="entr" presetID="5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365" nodeType="afterEffect" fill="hold" presetClass="entr" presetID="3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6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6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6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7196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1187280" y="35712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«Шесть шляп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1187280" y="10000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(Эдвард де Боно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4973760" y="4253040"/>
            <a:ext cx="338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  <a:ea typeface="Arial"/>
              </a:rPr>
              <a:t>Белая шляпа</a:t>
            </a:r>
            <a:r>
              <a:rPr b="1" lang="ru-RU" sz="1800" spc="-1" strike="noStrike">
                <a:solidFill>
                  <a:srgbClr val="cccc00"/>
                </a:solidFill>
                <a:latin typeface="Verdana"/>
                <a:ea typeface="Arial"/>
              </a:rPr>
              <a:t> </a:t>
            </a:r>
            <a:r>
              <a:rPr b="1" lang="ru-RU" sz="1800" spc="-1" strike="noStrike">
                <a:solidFill>
                  <a:srgbClr val="e1e1e1"/>
                </a:solidFill>
                <a:latin typeface="Verdana"/>
                <a:ea typeface="Arial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белый цвет беспристрастен и объективен. В ней «варятся» мысли, «замешанные» на цифрах и факта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3" name="Picture 11" descr="Белая шляпа"/>
          <p:cNvPicPr/>
          <p:nvPr/>
        </p:nvPicPr>
        <p:blipFill>
          <a:blip r:embed="rId1"/>
          <a:stretch/>
        </p:blipFill>
        <p:spPr>
          <a:xfrm>
            <a:off x="785880" y="4429080"/>
            <a:ext cx="3119400" cy="188424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9" descr="Синяя шляпа"/>
          <p:cNvPicPr/>
          <p:nvPr/>
        </p:nvPicPr>
        <p:blipFill>
          <a:blip r:embed="rId2"/>
          <a:stretch/>
        </p:blipFill>
        <p:spPr>
          <a:xfrm>
            <a:off x="5238720" y="1500120"/>
            <a:ext cx="3119400" cy="188460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7"/>
          <p:cNvSpPr/>
          <p:nvPr/>
        </p:nvSpPr>
        <p:spPr>
          <a:xfrm>
            <a:off x="571680" y="1643040"/>
            <a:ext cx="338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  <a:ea typeface="Arial"/>
              </a:rPr>
              <a:t>Синяя шляпа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  <a:ea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синий цвет холодный, это цвет неба. Она связана с организацией, обобщением того, что достигнут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Рисунок 3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547" name="TextBox 2" descr=""/>
          <p:cNvPicPr/>
          <p:nvPr/>
        </p:nvPicPr>
        <p:blipFill>
          <a:blip r:embed="rId2"/>
          <a:stretch/>
        </p:blipFill>
        <p:spPr>
          <a:xfrm>
            <a:off x="781200" y="5924520"/>
            <a:ext cx="7581600" cy="652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09800" y="676080"/>
            <a:ext cx="7124400" cy="23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Химия  любви, </a:t>
            </a:r>
            <a:br>
              <a:rPr sz="4800"/>
            </a:b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или</a:t>
            </a: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любовь  к  химии.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7" name="Прямоугольник 17"/>
          <p:cNvSpPr/>
          <p:nvPr/>
        </p:nvSpPr>
        <p:spPr>
          <a:xfrm>
            <a:off x="571680" y="4000680"/>
            <a:ext cx="4572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Часть 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Любовь    как    хим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Часть 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Любовь   как   палитр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Часть 3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Любовь   как   притяжен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8" name="Рисунок 18" descr="khimicheskij_opyt_jpg.gif"/>
          <p:cNvPicPr/>
          <p:nvPr/>
        </p:nvPicPr>
        <p:blipFill>
          <a:blip r:embed="rId2"/>
          <a:stretch/>
        </p:blipFill>
        <p:spPr>
          <a:xfrm>
            <a:off x="4233960" y="3571920"/>
            <a:ext cx="2124000" cy="154296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21" descr="Аромат 5.jpeg"/>
          <p:cNvPicPr/>
          <p:nvPr/>
        </p:nvPicPr>
        <p:blipFill>
          <a:blip r:embed="rId3"/>
          <a:stretch/>
        </p:blipFill>
        <p:spPr>
          <a:xfrm>
            <a:off x="4714920" y="5411880"/>
            <a:ext cx="1857240" cy="116028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22" descr="Аромат 7.jpeg"/>
          <p:cNvPicPr/>
          <p:nvPr/>
        </p:nvPicPr>
        <p:blipFill>
          <a:blip r:embed="rId4"/>
          <a:stretch/>
        </p:blipFill>
        <p:spPr>
          <a:xfrm>
            <a:off x="7215120" y="5394240"/>
            <a:ext cx="1681200" cy="117792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23" descr="Палитра надо.jpeg"/>
          <p:cNvPicPr/>
          <p:nvPr/>
        </p:nvPicPr>
        <p:blipFill>
          <a:blip r:embed="rId5"/>
          <a:stretch/>
        </p:blipFill>
        <p:spPr>
          <a:xfrm>
            <a:off x="6572160" y="3857760"/>
            <a:ext cx="1643040" cy="1231920"/>
          </a:xfrm>
          <a:prstGeom prst="rect">
            <a:avLst/>
          </a:prstGeom>
          <a:ln w="0">
            <a:noFill/>
          </a:ln>
        </p:spPr>
      </p:pic>
      <p:sp>
        <p:nvSpPr>
          <p:cNvPr id="332" name="TextBox 25"/>
          <p:cNvSpPr/>
          <p:nvPr/>
        </p:nvSpPr>
        <p:spPr>
          <a:xfrm>
            <a:off x="142920" y="318132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Цель: Взглянуть на предмет другими глазами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Box 4"/>
          <p:cNvSpPr/>
          <p:nvPr/>
        </p:nvSpPr>
        <p:spPr>
          <a:xfrm>
            <a:off x="1071720" y="3000240"/>
            <a:ext cx="66434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Стадия   влюблен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NaOH + HCl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 NaCl + H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Georgia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Box 5"/>
          <p:cNvSpPr/>
          <p:nvPr/>
        </p:nvSpPr>
        <p:spPr>
          <a:xfrm>
            <a:off x="857160" y="214200"/>
            <a:ext cx="74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Любовь  как  хим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Схема 6" descr=""/>
          <p:cNvPicPr/>
          <p:nvPr/>
        </p:nvPicPr>
        <p:blipFill>
          <a:blip r:embed="rId2"/>
          <a:stretch/>
        </p:blipFill>
        <p:spPr>
          <a:xfrm>
            <a:off x="347760" y="858960"/>
            <a:ext cx="8588160" cy="2139840"/>
          </a:xfrm>
          <a:prstGeom prst="rect">
            <a:avLst/>
          </a:prstGeom>
          <a:ln w="0">
            <a:noFill/>
          </a:ln>
        </p:spPr>
      </p:pic>
      <p:sp>
        <p:nvSpPr>
          <p:cNvPr id="336" name="Цилиндр 7"/>
          <p:cNvSpPr/>
          <p:nvPr/>
        </p:nvSpPr>
        <p:spPr>
          <a:xfrm>
            <a:off x="1000080" y="5500800"/>
            <a:ext cx="571680" cy="1071360"/>
          </a:xfrm>
          <a:prstGeom prst="can">
            <a:avLst>
              <a:gd name="adj" fmla="val 13333"/>
            </a:avLst>
          </a:prstGeom>
          <a:solidFill>
            <a:srgbClr val="d9d9d9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Цилиндр 8"/>
          <p:cNvSpPr/>
          <p:nvPr/>
        </p:nvSpPr>
        <p:spPr>
          <a:xfrm>
            <a:off x="7572240" y="4286160"/>
            <a:ext cx="571680" cy="142884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Цилиндр 10"/>
          <p:cNvSpPr/>
          <p:nvPr/>
        </p:nvSpPr>
        <p:spPr>
          <a:xfrm>
            <a:off x="7572240" y="5572080"/>
            <a:ext cx="571680" cy="1071720"/>
          </a:xfrm>
          <a:prstGeom prst="can">
            <a:avLst>
              <a:gd name="adj" fmla="val 13333"/>
            </a:avLst>
          </a:prstGeom>
          <a:solidFill>
            <a:srgbClr val="d9d9d9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Стрелка углом 11"/>
          <p:cNvSpPr/>
          <p:nvPr/>
        </p:nvSpPr>
        <p:spPr>
          <a:xfrm rot="5400000">
            <a:off x="642600" y="3500280"/>
            <a:ext cx="500040" cy="1071720"/>
          </a:xfrm>
          <a:custGeom>
            <a:avLst/>
            <a:gdLst/>
            <a:ahLst/>
            <a:rect l="l" t="t" r="r" b="b"/>
            <a:pathLst>
              <a:path w="500062" h="1071562">
                <a:moveTo>
                  <a:pt x="0" y="1071562"/>
                </a:moveTo>
                <a:lnTo>
                  <a:pt x="0" y="281285"/>
                </a:lnTo>
                <a:cubicBezTo>
                  <a:pt x="0" y="160458"/>
                  <a:pt x="97950" y="62508"/>
                  <a:pt x="218777" y="62508"/>
                </a:cubicBezTo>
                <a:lnTo>
                  <a:pt x="367076" y="62508"/>
                </a:lnTo>
                <a:lnTo>
                  <a:pt x="367076" y="0"/>
                </a:lnTo>
                <a:lnTo>
                  <a:pt x="500062" y="125016"/>
                </a:lnTo>
                <a:lnTo>
                  <a:pt x="367076" y="250031"/>
                </a:lnTo>
                <a:lnTo>
                  <a:pt x="367076" y="187523"/>
                </a:lnTo>
                <a:lnTo>
                  <a:pt x="218777" y="187523"/>
                </a:lnTo>
                <a:cubicBezTo>
                  <a:pt x="166994" y="187523"/>
                  <a:pt x="125015" y="229502"/>
                  <a:pt x="125015" y="281285"/>
                </a:cubicBezTo>
                <a:cubicBezTo>
                  <a:pt x="125015" y="544711"/>
                  <a:pt x="125016" y="808136"/>
                  <a:pt x="125016" y="1071562"/>
                </a:cubicBezTo>
                <a:lnTo>
                  <a:pt x="0" y="1071562"/>
                </a:lnTo>
                <a:close/>
              </a:path>
            </a:pathLst>
          </a:custGeom>
          <a:solidFill>
            <a:srgbClr val="262626"/>
          </a:solidFill>
          <a:ln cap="rnd" w="1908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Стрелка вправо 12"/>
          <p:cNvSpPr/>
          <p:nvPr/>
        </p:nvSpPr>
        <p:spPr>
          <a:xfrm>
            <a:off x="4214880" y="5000760"/>
            <a:ext cx="2071800" cy="285480"/>
          </a:xfrm>
          <a:prstGeom prst="rightArrow">
            <a:avLst>
              <a:gd name="adj1" fmla="val 50000"/>
              <a:gd name="adj2" fmla="val 50062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Цилиндр 13"/>
          <p:cNvSpPr/>
          <p:nvPr/>
        </p:nvSpPr>
        <p:spPr>
          <a:xfrm>
            <a:off x="2857680" y="4357800"/>
            <a:ext cx="571320" cy="1357200"/>
          </a:xfrm>
          <a:prstGeom prst="can">
            <a:avLst>
              <a:gd name="adj" fmla="val 1052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Цилиндр 14"/>
          <p:cNvSpPr/>
          <p:nvPr/>
        </p:nvSpPr>
        <p:spPr>
          <a:xfrm>
            <a:off x="2857680" y="5572080"/>
            <a:ext cx="571320" cy="1071720"/>
          </a:xfrm>
          <a:prstGeom prst="can">
            <a:avLst>
              <a:gd name="adj" fmla="val 13333"/>
            </a:avLst>
          </a:prstGeom>
          <a:solidFill>
            <a:srgbClr val="b0105c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Цилиндр 15"/>
          <p:cNvSpPr/>
          <p:nvPr/>
        </p:nvSpPr>
        <p:spPr>
          <a:xfrm>
            <a:off x="1000080" y="4286160"/>
            <a:ext cx="571680" cy="1357560"/>
          </a:xfrm>
          <a:prstGeom prst="can">
            <a:avLst>
              <a:gd name="adj" fmla="val 1052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TextBox 17"/>
          <p:cNvSpPr/>
          <p:nvPr/>
        </p:nvSpPr>
        <p:spPr>
          <a:xfrm>
            <a:off x="0" y="592920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NaO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TextBox 18"/>
          <p:cNvSpPr/>
          <p:nvPr/>
        </p:nvSpPr>
        <p:spPr>
          <a:xfrm>
            <a:off x="0" y="334476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фенолфталеи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Стрелка вправо 19"/>
          <p:cNvSpPr/>
          <p:nvPr/>
        </p:nvSpPr>
        <p:spPr>
          <a:xfrm>
            <a:off x="1785960" y="5000760"/>
            <a:ext cx="938160" cy="2854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Стрелка углом вверх 20"/>
          <p:cNvSpPr/>
          <p:nvPr/>
        </p:nvSpPr>
        <p:spPr>
          <a:xfrm rot="10800000">
            <a:off x="7715160" y="3929040"/>
            <a:ext cx="1000080" cy="571680"/>
          </a:xfrm>
          <a:custGeom>
            <a:avLst/>
            <a:gdLst/>
            <a:ahLst/>
            <a:rect l="l" t="t" r="r" b="b"/>
            <a:pathLst>
              <a:path w="1000125" h="571500">
                <a:moveTo>
                  <a:pt x="0" y="428625"/>
                </a:moveTo>
                <a:lnTo>
                  <a:pt x="785813" y="428625"/>
                </a:lnTo>
                <a:lnTo>
                  <a:pt x="785813" y="142875"/>
                </a:lnTo>
                <a:lnTo>
                  <a:pt x="714375" y="142875"/>
                </a:lnTo>
                <a:lnTo>
                  <a:pt x="857250" y="0"/>
                </a:lnTo>
                <a:lnTo>
                  <a:pt x="1000125" y="142875"/>
                </a:lnTo>
                <a:lnTo>
                  <a:pt x="928688" y="142875"/>
                </a:lnTo>
                <a:lnTo>
                  <a:pt x="928688" y="571500"/>
                </a:lnTo>
                <a:lnTo>
                  <a:pt x="0" y="571500"/>
                </a:lnTo>
                <a:lnTo>
                  <a:pt x="0" y="428625"/>
                </a:lnTo>
                <a:close/>
              </a:path>
            </a:pathLst>
          </a:custGeom>
          <a:solidFill>
            <a:srgbClr val="000000"/>
          </a:solidFill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TextBox 21"/>
          <p:cNvSpPr/>
          <p:nvPr/>
        </p:nvSpPr>
        <p:spPr>
          <a:xfrm>
            <a:off x="8001000" y="333360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HC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4"/>
          <p:cNvSpPr/>
          <p:nvPr/>
        </p:nvSpPr>
        <p:spPr>
          <a:xfrm>
            <a:off x="1071720" y="3000240"/>
            <a:ext cx="6643440" cy="12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Стадия   страстной любв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Mg + 2 HCl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Mg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TextBox 5"/>
          <p:cNvSpPr/>
          <p:nvPr/>
        </p:nvSpPr>
        <p:spPr>
          <a:xfrm>
            <a:off x="857160" y="214200"/>
            <a:ext cx="74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Любовь  как  хим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Схема 6" descr=""/>
          <p:cNvPicPr/>
          <p:nvPr/>
        </p:nvPicPr>
        <p:blipFill>
          <a:blip r:embed="rId2"/>
          <a:stretch/>
        </p:blipFill>
        <p:spPr>
          <a:xfrm>
            <a:off x="360360" y="755640"/>
            <a:ext cx="8570880" cy="2487600"/>
          </a:xfrm>
          <a:prstGeom prst="rect">
            <a:avLst/>
          </a:prstGeom>
          <a:ln w="0">
            <a:noFill/>
          </a:ln>
        </p:spPr>
      </p:pic>
      <p:sp>
        <p:nvSpPr>
          <p:cNvPr id="352" name="Цилиндр 7"/>
          <p:cNvSpPr/>
          <p:nvPr/>
        </p:nvSpPr>
        <p:spPr>
          <a:xfrm>
            <a:off x="1000080" y="5500800"/>
            <a:ext cx="571680" cy="1071360"/>
          </a:xfrm>
          <a:prstGeom prst="can">
            <a:avLst>
              <a:gd name="adj" fmla="val 13333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Цилиндр 8"/>
          <p:cNvSpPr/>
          <p:nvPr/>
        </p:nvSpPr>
        <p:spPr>
          <a:xfrm>
            <a:off x="7572240" y="4286160"/>
            <a:ext cx="571680" cy="142884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Цилиндр 10"/>
          <p:cNvSpPr/>
          <p:nvPr/>
        </p:nvSpPr>
        <p:spPr>
          <a:xfrm>
            <a:off x="7572240" y="5572080"/>
            <a:ext cx="571680" cy="1071720"/>
          </a:xfrm>
          <a:prstGeom prst="can">
            <a:avLst>
              <a:gd name="adj" fmla="val 13333"/>
            </a:avLst>
          </a:prstGeom>
          <a:solidFill>
            <a:srgbClr val="d9d9d9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Стрелка углом 11"/>
          <p:cNvSpPr/>
          <p:nvPr/>
        </p:nvSpPr>
        <p:spPr>
          <a:xfrm rot="5400000">
            <a:off x="642600" y="3500280"/>
            <a:ext cx="500040" cy="1071720"/>
          </a:xfrm>
          <a:custGeom>
            <a:avLst/>
            <a:gdLst/>
            <a:ahLst/>
            <a:rect l="l" t="t" r="r" b="b"/>
            <a:pathLst>
              <a:path w="500062" h="1071562">
                <a:moveTo>
                  <a:pt x="0" y="1071562"/>
                </a:moveTo>
                <a:lnTo>
                  <a:pt x="0" y="281285"/>
                </a:lnTo>
                <a:cubicBezTo>
                  <a:pt x="0" y="160458"/>
                  <a:pt x="97950" y="62508"/>
                  <a:pt x="218777" y="62508"/>
                </a:cubicBezTo>
                <a:lnTo>
                  <a:pt x="367076" y="62508"/>
                </a:lnTo>
                <a:lnTo>
                  <a:pt x="367076" y="0"/>
                </a:lnTo>
                <a:lnTo>
                  <a:pt x="500062" y="125016"/>
                </a:lnTo>
                <a:lnTo>
                  <a:pt x="367076" y="250031"/>
                </a:lnTo>
                <a:lnTo>
                  <a:pt x="367076" y="187523"/>
                </a:lnTo>
                <a:lnTo>
                  <a:pt x="218777" y="187523"/>
                </a:lnTo>
                <a:cubicBezTo>
                  <a:pt x="166994" y="187523"/>
                  <a:pt x="125015" y="229502"/>
                  <a:pt x="125015" y="281285"/>
                </a:cubicBezTo>
                <a:cubicBezTo>
                  <a:pt x="125015" y="544711"/>
                  <a:pt x="125016" y="808136"/>
                  <a:pt x="125016" y="1071562"/>
                </a:cubicBezTo>
                <a:lnTo>
                  <a:pt x="0" y="1071562"/>
                </a:lnTo>
                <a:close/>
              </a:path>
            </a:pathLst>
          </a:custGeom>
          <a:solidFill>
            <a:srgbClr val="262626"/>
          </a:solidFill>
          <a:ln cap="rnd" w="1908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Стрелка вправо 12"/>
          <p:cNvSpPr/>
          <p:nvPr/>
        </p:nvSpPr>
        <p:spPr>
          <a:xfrm>
            <a:off x="3500280" y="5286240"/>
            <a:ext cx="2071800" cy="28584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Цилиндр 15"/>
          <p:cNvSpPr/>
          <p:nvPr/>
        </p:nvSpPr>
        <p:spPr>
          <a:xfrm>
            <a:off x="1000080" y="4286160"/>
            <a:ext cx="571680" cy="1357560"/>
          </a:xfrm>
          <a:prstGeom prst="can">
            <a:avLst>
              <a:gd name="adj" fmla="val 1052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TextBox 17"/>
          <p:cNvSpPr/>
          <p:nvPr/>
        </p:nvSpPr>
        <p:spPr>
          <a:xfrm>
            <a:off x="214200" y="592920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M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TextBox 18"/>
          <p:cNvSpPr/>
          <p:nvPr/>
        </p:nvSpPr>
        <p:spPr>
          <a:xfrm>
            <a:off x="0" y="3201840"/>
            <a:ext cx="10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Полилиния 22"/>
          <p:cNvSpPr/>
          <p:nvPr/>
        </p:nvSpPr>
        <p:spPr>
          <a:xfrm>
            <a:off x="1060560" y="5711760"/>
            <a:ext cx="501480" cy="844560"/>
          </a:xfrm>
          <a:custGeom>
            <a:avLst/>
            <a:gdLst/>
            <a:ahLst/>
            <a:rect l="l" t="t" r="r" b="b"/>
            <a:pathLst>
              <a:path w="502081" h="844322">
                <a:moveTo>
                  <a:pt x="121664" y="0"/>
                </a:moveTo>
                <a:cubicBezTo>
                  <a:pt x="107596" y="4689"/>
                  <a:pt x="89946" y="3583"/>
                  <a:pt x="79461" y="14068"/>
                </a:cubicBezTo>
                <a:cubicBezTo>
                  <a:pt x="68976" y="24553"/>
                  <a:pt x="72025" y="43008"/>
                  <a:pt x="65393" y="56271"/>
                </a:cubicBezTo>
                <a:cubicBezTo>
                  <a:pt x="57832" y="71393"/>
                  <a:pt x="46636" y="84406"/>
                  <a:pt x="37258" y="98474"/>
                </a:cubicBezTo>
                <a:cubicBezTo>
                  <a:pt x="51326" y="140677"/>
                  <a:pt x="53950" y="188639"/>
                  <a:pt x="79461" y="225083"/>
                </a:cubicBezTo>
                <a:cubicBezTo>
                  <a:pt x="90548" y="240922"/>
                  <a:pt x="117142" y="233839"/>
                  <a:pt x="135732" y="239151"/>
                </a:cubicBezTo>
                <a:cubicBezTo>
                  <a:pt x="276964" y="279504"/>
                  <a:pt x="58346" y="223323"/>
                  <a:pt x="234206" y="267286"/>
                </a:cubicBezTo>
                <a:cubicBezTo>
                  <a:pt x="290477" y="257908"/>
                  <a:pt x="349295" y="258338"/>
                  <a:pt x="403018" y="239151"/>
                </a:cubicBezTo>
                <a:cubicBezTo>
                  <a:pt x="418940" y="233465"/>
                  <a:pt x="429471" y="213771"/>
                  <a:pt x="431153" y="196948"/>
                </a:cubicBezTo>
                <a:cubicBezTo>
                  <a:pt x="434452" y="163955"/>
                  <a:pt x="423589" y="130988"/>
                  <a:pt x="417086" y="98474"/>
                </a:cubicBezTo>
                <a:cubicBezTo>
                  <a:pt x="411051" y="68298"/>
                  <a:pt x="402567" y="44745"/>
                  <a:pt x="374883" y="28135"/>
                </a:cubicBezTo>
                <a:cubicBezTo>
                  <a:pt x="362168" y="20506"/>
                  <a:pt x="346748" y="18757"/>
                  <a:pt x="332680" y="14068"/>
                </a:cubicBezTo>
                <a:cubicBezTo>
                  <a:pt x="267031" y="23446"/>
                  <a:pt x="200068" y="26119"/>
                  <a:pt x="135732" y="42203"/>
                </a:cubicBezTo>
                <a:cubicBezTo>
                  <a:pt x="122865" y="45420"/>
                  <a:pt x="117953" y="62053"/>
                  <a:pt x="107596" y="70339"/>
                </a:cubicBezTo>
                <a:cubicBezTo>
                  <a:pt x="94394" y="80901"/>
                  <a:pt x="79461" y="89096"/>
                  <a:pt x="65393" y="98474"/>
                </a:cubicBezTo>
                <a:cubicBezTo>
                  <a:pt x="56015" y="117231"/>
                  <a:pt x="38255" y="133798"/>
                  <a:pt x="37258" y="154745"/>
                </a:cubicBezTo>
                <a:cubicBezTo>
                  <a:pt x="31866" y="267984"/>
                  <a:pt x="0" y="373746"/>
                  <a:pt x="93529" y="436099"/>
                </a:cubicBezTo>
                <a:cubicBezTo>
                  <a:pt x="105867" y="444324"/>
                  <a:pt x="121664" y="445477"/>
                  <a:pt x="135732" y="450166"/>
                </a:cubicBezTo>
                <a:cubicBezTo>
                  <a:pt x="252963" y="445477"/>
                  <a:pt x="371464" y="453939"/>
                  <a:pt x="487424" y="436099"/>
                </a:cubicBezTo>
                <a:cubicBezTo>
                  <a:pt x="502081" y="433844"/>
                  <a:pt x="501492" y="408724"/>
                  <a:pt x="501492" y="393895"/>
                </a:cubicBezTo>
                <a:cubicBezTo>
                  <a:pt x="501492" y="356089"/>
                  <a:pt x="499379" y="317220"/>
                  <a:pt x="487424" y="281354"/>
                </a:cubicBezTo>
                <a:cubicBezTo>
                  <a:pt x="480010" y="259111"/>
                  <a:pt x="462745" y="240660"/>
                  <a:pt x="445221" y="225083"/>
                </a:cubicBezTo>
                <a:cubicBezTo>
                  <a:pt x="419948" y="202618"/>
                  <a:pt x="388950" y="187569"/>
                  <a:pt x="360815" y="168812"/>
                </a:cubicBezTo>
                <a:cubicBezTo>
                  <a:pt x="297603" y="126670"/>
                  <a:pt x="334307" y="146955"/>
                  <a:pt x="248273" y="112542"/>
                </a:cubicBezTo>
                <a:cubicBezTo>
                  <a:pt x="224827" y="117231"/>
                  <a:pt x="198438" y="114307"/>
                  <a:pt x="177935" y="126609"/>
                </a:cubicBezTo>
                <a:cubicBezTo>
                  <a:pt x="149502" y="143669"/>
                  <a:pt x="107596" y="196948"/>
                  <a:pt x="107596" y="196948"/>
                </a:cubicBezTo>
                <a:cubicBezTo>
                  <a:pt x="102907" y="215705"/>
                  <a:pt x="102176" y="235926"/>
                  <a:pt x="93529" y="253219"/>
                </a:cubicBezTo>
                <a:cubicBezTo>
                  <a:pt x="87598" y="265082"/>
                  <a:pt x="70050" y="268935"/>
                  <a:pt x="65393" y="281354"/>
                </a:cubicBezTo>
                <a:cubicBezTo>
                  <a:pt x="55378" y="308061"/>
                  <a:pt x="56015" y="337625"/>
                  <a:pt x="51326" y="365760"/>
                </a:cubicBezTo>
                <a:cubicBezTo>
                  <a:pt x="56015" y="426720"/>
                  <a:pt x="58993" y="487836"/>
                  <a:pt x="65393" y="548640"/>
                </a:cubicBezTo>
                <a:cubicBezTo>
                  <a:pt x="68379" y="577007"/>
                  <a:pt x="60898" y="611389"/>
                  <a:pt x="79461" y="633046"/>
                </a:cubicBezTo>
                <a:cubicBezTo>
                  <a:pt x="95022" y="651200"/>
                  <a:pt x="126354" y="642425"/>
                  <a:pt x="149800" y="647114"/>
                </a:cubicBezTo>
                <a:cubicBezTo>
                  <a:pt x="248274" y="642425"/>
                  <a:pt x="362563" y="686774"/>
                  <a:pt x="445221" y="633046"/>
                </a:cubicBezTo>
                <a:cubicBezTo>
                  <a:pt x="492564" y="602273"/>
                  <a:pt x="442227" y="519603"/>
                  <a:pt x="431153" y="464234"/>
                </a:cubicBezTo>
                <a:cubicBezTo>
                  <a:pt x="427837" y="447655"/>
                  <a:pt x="413580" y="435233"/>
                  <a:pt x="403018" y="422031"/>
                </a:cubicBezTo>
                <a:cubicBezTo>
                  <a:pt x="384993" y="399499"/>
                  <a:pt x="338314" y="362638"/>
                  <a:pt x="318612" y="351692"/>
                </a:cubicBezTo>
                <a:cubicBezTo>
                  <a:pt x="296537" y="339428"/>
                  <a:pt x="271719" y="332935"/>
                  <a:pt x="248273" y="323557"/>
                </a:cubicBezTo>
                <a:cubicBezTo>
                  <a:pt x="229516" y="328246"/>
                  <a:pt x="208790" y="328033"/>
                  <a:pt x="192003" y="337625"/>
                </a:cubicBezTo>
                <a:cubicBezTo>
                  <a:pt x="174730" y="347496"/>
                  <a:pt x="165084" y="367092"/>
                  <a:pt x="149800" y="379828"/>
                </a:cubicBezTo>
                <a:cubicBezTo>
                  <a:pt x="136811" y="390652"/>
                  <a:pt x="121664" y="398585"/>
                  <a:pt x="107596" y="407963"/>
                </a:cubicBezTo>
                <a:cubicBezTo>
                  <a:pt x="74115" y="508409"/>
                  <a:pt x="95912" y="467693"/>
                  <a:pt x="51326" y="534572"/>
                </a:cubicBezTo>
                <a:cubicBezTo>
                  <a:pt x="56015" y="614289"/>
                  <a:pt x="37787" y="698792"/>
                  <a:pt x="65393" y="773723"/>
                </a:cubicBezTo>
                <a:cubicBezTo>
                  <a:pt x="75646" y="801552"/>
                  <a:pt x="120290" y="798908"/>
                  <a:pt x="149800" y="801859"/>
                </a:cubicBezTo>
                <a:lnTo>
                  <a:pt x="290476" y="815926"/>
                </a:lnTo>
                <a:cubicBezTo>
                  <a:pt x="431068" y="800306"/>
                  <a:pt x="417086" y="844322"/>
                  <a:pt x="417086" y="759655"/>
                </a:cubicBez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1" name="Выноска-облако 23" descr=""/>
          <p:cNvPicPr/>
          <p:nvPr/>
        </p:nvPicPr>
        <p:blipFill>
          <a:blip r:embed="rId3"/>
          <a:stretch/>
        </p:blipFill>
        <p:spPr>
          <a:xfrm>
            <a:off x="7418520" y="3206880"/>
            <a:ext cx="1457280" cy="1225440"/>
          </a:xfrm>
          <a:prstGeom prst="rect">
            <a:avLst/>
          </a:prstGeom>
          <a:ln w="0">
            <a:noFill/>
          </a:ln>
        </p:spPr>
      </p:pic>
      <p:sp>
        <p:nvSpPr>
          <p:cNvPr id="362" name="Прямоугольник 25"/>
          <p:cNvSpPr/>
          <p:nvPr/>
        </p:nvSpPr>
        <p:spPr>
          <a:xfrm>
            <a:off x="6066000" y="6072120"/>
            <a:ext cx="150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+ Q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4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Box 4"/>
          <p:cNvSpPr/>
          <p:nvPr/>
        </p:nvSpPr>
        <p:spPr>
          <a:xfrm>
            <a:off x="1071720" y="3000240"/>
            <a:ext cx="6643440" cy="12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Стадия   зрелой любв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Zn + 2 HCl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Zn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TextBox 5"/>
          <p:cNvSpPr/>
          <p:nvPr/>
        </p:nvSpPr>
        <p:spPr>
          <a:xfrm>
            <a:off x="857160" y="214200"/>
            <a:ext cx="74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Любовь  как  хим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5" name="Схема 6" descr=""/>
          <p:cNvPicPr/>
          <p:nvPr/>
        </p:nvPicPr>
        <p:blipFill>
          <a:blip r:embed="rId2"/>
          <a:stretch/>
        </p:blipFill>
        <p:spPr>
          <a:xfrm>
            <a:off x="347760" y="858960"/>
            <a:ext cx="8588160" cy="2139840"/>
          </a:xfrm>
          <a:prstGeom prst="rect">
            <a:avLst/>
          </a:prstGeom>
          <a:ln w="0">
            <a:noFill/>
          </a:ln>
        </p:spPr>
      </p:pic>
      <p:sp>
        <p:nvSpPr>
          <p:cNvPr id="366" name="Цилиндр 7"/>
          <p:cNvSpPr/>
          <p:nvPr/>
        </p:nvSpPr>
        <p:spPr>
          <a:xfrm>
            <a:off x="1000080" y="5500800"/>
            <a:ext cx="571680" cy="1071360"/>
          </a:xfrm>
          <a:prstGeom prst="can">
            <a:avLst>
              <a:gd name="adj" fmla="val 13333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Цилиндр 8"/>
          <p:cNvSpPr/>
          <p:nvPr/>
        </p:nvSpPr>
        <p:spPr>
          <a:xfrm>
            <a:off x="7572240" y="4286160"/>
            <a:ext cx="571680" cy="142884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Цилиндр 10"/>
          <p:cNvSpPr/>
          <p:nvPr/>
        </p:nvSpPr>
        <p:spPr>
          <a:xfrm>
            <a:off x="7572240" y="5572080"/>
            <a:ext cx="571680" cy="1071720"/>
          </a:xfrm>
          <a:prstGeom prst="can">
            <a:avLst>
              <a:gd name="adj" fmla="val 13333"/>
            </a:avLst>
          </a:prstGeom>
          <a:solidFill>
            <a:srgbClr val="d9d9d9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Стрелка углом 11"/>
          <p:cNvSpPr/>
          <p:nvPr/>
        </p:nvSpPr>
        <p:spPr>
          <a:xfrm rot="5400000">
            <a:off x="642600" y="3500280"/>
            <a:ext cx="500040" cy="1071720"/>
          </a:xfrm>
          <a:custGeom>
            <a:avLst/>
            <a:gdLst/>
            <a:ahLst/>
            <a:rect l="l" t="t" r="r" b="b"/>
            <a:pathLst>
              <a:path w="500062" h="1071562">
                <a:moveTo>
                  <a:pt x="0" y="1071562"/>
                </a:moveTo>
                <a:lnTo>
                  <a:pt x="0" y="281285"/>
                </a:lnTo>
                <a:cubicBezTo>
                  <a:pt x="0" y="160458"/>
                  <a:pt x="97950" y="62508"/>
                  <a:pt x="218777" y="62508"/>
                </a:cubicBezTo>
                <a:lnTo>
                  <a:pt x="367076" y="62508"/>
                </a:lnTo>
                <a:lnTo>
                  <a:pt x="367076" y="0"/>
                </a:lnTo>
                <a:lnTo>
                  <a:pt x="500062" y="125016"/>
                </a:lnTo>
                <a:lnTo>
                  <a:pt x="367076" y="250031"/>
                </a:lnTo>
                <a:lnTo>
                  <a:pt x="367076" y="187523"/>
                </a:lnTo>
                <a:lnTo>
                  <a:pt x="218777" y="187523"/>
                </a:lnTo>
                <a:cubicBezTo>
                  <a:pt x="166994" y="187523"/>
                  <a:pt x="125015" y="229502"/>
                  <a:pt x="125015" y="281285"/>
                </a:cubicBezTo>
                <a:cubicBezTo>
                  <a:pt x="125015" y="544711"/>
                  <a:pt x="125016" y="808136"/>
                  <a:pt x="125016" y="1071562"/>
                </a:cubicBezTo>
                <a:lnTo>
                  <a:pt x="0" y="1071562"/>
                </a:lnTo>
                <a:close/>
              </a:path>
            </a:pathLst>
          </a:custGeom>
          <a:solidFill>
            <a:srgbClr val="262626"/>
          </a:solidFill>
          <a:ln cap="rnd" w="1908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Стрелка вправо 12"/>
          <p:cNvSpPr/>
          <p:nvPr/>
        </p:nvSpPr>
        <p:spPr>
          <a:xfrm>
            <a:off x="3500280" y="5286240"/>
            <a:ext cx="2071800" cy="28584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Цилиндр 15"/>
          <p:cNvSpPr/>
          <p:nvPr/>
        </p:nvSpPr>
        <p:spPr>
          <a:xfrm>
            <a:off x="1000080" y="4286160"/>
            <a:ext cx="571680" cy="1357560"/>
          </a:xfrm>
          <a:prstGeom prst="can">
            <a:avLst>
              <a:gd name="adj" fmla="val 1052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TextBox 17"/>
          <p:cNvSpPr/>
          <p:nvPr/>
        </p:nvSpPr>
        <p:spPr>
          <a:xfrm>
            <a:off x="214200" y="592920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TextBox 18"/>
          <p:cNvSpPr/>
          <p:nvPr/>
        </p:nvSpPr>
        <p:spPr>
          <a:xfrm>
            <a:off x="0" y="3201840"/>
            <a:ext cx="10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Полилиния 22"/>
          <p:cNvSpPr/>
          <p:nvPr/>
        </p:nvSpPr>
        <p:spPr>
          <a:xfrm>
            <a:off x="1060560" y="5711760"/>
            <a:ext cx="501480" cy="844560"/>
          </a:xfrm>
          <a:custGeom>
            <a:avLst/>
            <a:gdLst/>
            <a:ahLst/>
            <a:rect l="l" t="t" r="r" b="b"/>
            <a:pathLst>
              <a:path w="502081" h="844322">
                <a:moveTo>
                  <a:pt x="121664" y="0"/>
                </a:moveTo>
                <a:cubicBezTo>
                  <a:pt x="107596" y="4689"/>
                  <a:pt x="89946" y="3583"/>
                  <a:pt x="79461" y="14068"/>
                </a:cubicBezTo>
                <a:cubicBezTo>
                  <a:pt x="68976" y="24553"/>
                  <a:pt x="72025" y="43008"/>
                  <a:pt x="65393" y="56271"/>
                </a:cubicBezTo>
                <a:cubicBezTo>
                  <a:pt x="57832" y="71393"/>
                  <a:pt x="46636" y="84406"/>
                  <a:pt x="37258" y="98474"/>
                </a:cubicBezTo>
                <a:cubicBezTo>
                  <a:pt x="51326" y="140677"/>
                  <a:pt x="53950" y="188639"/>
                  <a:pt x="79461" y="225083"/>
                </a:cubicBezTo>
                <a:cubicBezTo>
                  <a:pt x="90548" y="240922"/>
                  <a:pt x="117142" y="233839"/>
                  <a:pt x="135732" y="239151"/>
                </a:cubicBezTo>
                <a:cubicBezTo>
                  <a:pt x="276964" y="279504"/>
                  <a:pt x="58346" y="223323"/>
                  <a:pt x="234206" y="267286"/>
                </a:cubicBezTo>
                <a:cubicBezTo>
                  <a:pt x="290477" y="257908"/>
                  <a:pt x="349295" y="258338"/>
                  <a:pt x="403018" y="239151"/>
                </a:cubicBezTo>
                <a:cubicBezTo>
                  <a:pt x="418940" y="233465"/>
                  <a:pt x="429471" y="213771"/>
                  <a:pt x="431153" y="196948"/>
                </a:cubicBezTo>
                <a:cubicBezTo>
                  <a:pt x="434452" y="163955"/>
                  <a:pt x="423589" y="130988"/>
                  <a:pt x="417086" y="98474"/>
                </a:cubicBezTo>
                <a:cubicBezTo>
                  <a:pt x="411051" y="68298"/>
                  <a:pt x="402567" y="44745"/>
                  <a:pt x="374883" y="28135"/>
                </a:cubicBezTo>
                <a:cubicBezTo>
                  <a:pt x="362168" y="20506"/>
                  <a:pt x="346748" y="18757"/>
                  <a:pt x="332680" y="14068"/>
                </a:cubicBezTo>
                <a:cubicBezTo>
                  <a:pt x="267031" y="23446"/>
                  <a:pt x="200068" y="26119"/>
                  <a:pt x="135732" y="42203"/>
                </a:cubicBezTo>
                <a:cubicBezTo>
                  <a:pt x="122865" y="45420"/>
                  <a:pt x="117953" y="62053"/>
                  <a:pt x="107596" y="70339"/>
                </a:cubicBezTo>
                <a:cubicBezTo>
                  <a:pt x="94394" y="80901"/>
                  <a:pt x="79461" y="89096"/>
                  <a:pt x="65393" y="98474"/>
                </a:cubicBezTo>
                <a:cubicBezTo>
                  <a:pt x="56015" y="117231"/>
                  <a:pt x="38255" y="133798"/>
                  <a:pt x="37258" y="154745"/>
                </a:cubicBezTo>
                <a:cubicBezTo>
                  <a:pt x="31866" y="267984"/>
                  <a:pt x="0" y="373746"/>
                  <a:pt x="93529" y="436099"/>
                </a:cubicBezTo>
                <a:cubicBezTo>
                  <a:pt x="105867" y="444324"/>
                  <a:pt x="121664" y="445477"/>
                  <a:pt x="135732" y="450166"/>
                </a:cubicBezTo>
                <a:cubicBezTo>
                  <a:pt x="252963" y="445477"/>
                  <a:pt x="371464" y="453939"/>
                  <a:pt x="487424" y="436099"/>
                </a:cubicBezTo>
                <a:cubicBezTo>
                  <a:pt x="502081" y="433844"/>
                  <a:pt x="501492" y="408724"/>
                  <a:pt x="501492" y="393895"/>
                </a:cubicBezTo>
                <a:cubicBezTo>
                  <a:pt x="501492" y="356089"/>
                  <a:pt x="499379" y="317220"/>
                  <a:pt x="487424" y="281354"/>
                </a:cubicBezTo>
                <a:cubicBezTo>
                  <a:pt x="480010" y="259111"/>
                  <a:pt x="462745" y="240660"/>
                  <a:pt x="445221" y="225083"/>
                </a:cubicBezTo>
                <a:cubicBezTo>
                  <a:pt x="419948" y="202618"/>
                  <a:pt x="388950" y="187569"/>
                  <a:pt x="360815" y="168812"/>
                </a:cubicBezTo>
                <a:cubicBezTo>
                  <a:pt x="297603" y="126670"/>
                  <a:pt x="334307" y="146955"/>
                  <a:pt x="248273" y="112542"/>
                </a:cubicBezTo>
                <a:cubicBezTo>
                  <a:pt x="224827" y="117231"/>
                  <a:pt x="198438" y="114307"/>
                  <a:pt x="177935" y="126609"/>
                </a:cubicBezTo>
                <a:cubicBezTo>
                  <a:pt x="149502" y="143669"/>
                  <a:pt x="107596" y="196948"/>
                  <a:pt x="107596" y="196948"/>
                </a:cubicBezTo>
                <a:cubicBezTo>
                  <a:pt x="102907" y="215705"/>
                  <a:pt x="102176" y="235926"/>
                  <a:pt x="93529" y="253219"/>
                </a:cubicBezTo>
                <a:cubicBezTo>
                  <a:pt x="87598" y="265082"/>
                  <a:pt x="70050" y="268935"/>
                  <a:pt x="65393" y="281354"/>
                </a:cubicBezTo>
                <a:cubicBezTo>
                  <a:pt x="55378" y="308061"/>
                  <a:pt x="56015" y="337625"/>
                  <a:pt x="51326" y="365760"/>
                </a:cubicBezTo>
                <a:cubicBezTo>
                  <a:pt x="56015" y="426720"/>
                  <a:pt x="58993" y="487836"/>
                  <a:pt x="65393" y="548640"/>
                </a:cubicBezTo>
                <a:cubicBezTo>
                  <a:pt x="68379" y="577007"/>
                  <a:pt x="60898" y="611389"/>
                  <a:pt x="79461" y="633046"/>
                </a:cubicBezTo>
                <a:cubicBezTo>
                  <a:pt x="95022" y="651200"/>
                  <a:pt x="126354" y="642425"/>
                  <a:pt x="149800" y="647114"/>
                </a:cubicBezTo>
                <a:cubicBezTo>
                  <a:pt x="248274" y="642425"/>
                  <a:pt x="362563" y="686774"/>
                  <a:pt x="445221" y="633046"/>
                </a:cubicBezTo>
                <a:cubicBezTo>
                  <a:pt x="492564" y="602273"/>
                  <a:pt x="442227" y="519603"/>
                  <a:pt x="431153" y="464234"/>
                </a:cubicBezTo>
                <a:cubicBezTo>
                  <a:pt x="427837" y="447655"/>
                  <a:pt x="413580" y="435233"/>
                  <a:pt x="403018" y="422031"/>
                </a:cubicBezTo>
                <a:cubicBezTo>
                  <a:pt x="384993" y="399499"/>
                  <a:pt x="338314" y="362638"/>
                  <a:pt x="318612" y="351692"/>
                </a:cubicBezTo>
                <a:cubicBezTo>
                  <a:pt x="296537" y="339428"/>
                  <a:pt x="271719" y="332935"/>
                  <a:pt x="248273" y="323557"/>
                </a:cubicBezTo>
                <a:cubicBezTo>
                  <a:pt x="229516" y="328246"/>
                  <a:pt x="208790" y="328033"/>
                  <a:pt x="192003" y="337625"/>
                </a:cubicBezTo>
                <a:cubicBezTo>
                  <a:pt x="174730" y="347496"/>
                  <a:pt x="165084" y="367092"/>
                  <a:pt x="149800" y="379828"/>
                </a:cubicBezTo>
                <a:cubicBezTo>
                  <a:pt x="136811" y="390652"/>
                  <a:pt x="121664" y="398585"/>
                  <a:pt x="107596" y="407963"/>
                </a:cubicBezTo>
                <a:cubicBezTo>
                  <a:pt x="74115" y="508409"/>
                  <a:pt x="95912" y="467693"/>
                  <a:pt x="51326" y="534572"/>
                </a:cubicBezTo>
                <a:cubicBezTo>
                  <a:pt x="56015" y="614289"/>
                  <a:pt x="37787" y="698792"/>
                  <a:pt x="65393" y="773723"/>
                </a:cubicBezTo>
                <a:cubicBezTo>
                  <a:pt x="75646" y="801552"/>
                  <a:pt x="120290" y="798908"/>
                  <a:pt x="149800" y="801859"/>
                </a:cubicBezTo>
                <a:lnTo>
                  <a:pt x="290476" y="815926"/>
                </a:lnTo>
                <a:cubicBezTo>
                  <a:pt x="431068" y="800306"/>
                  <a:pt x="417086" y="844322"/>
                  <a:pt x="417086" y="759655"/>
                </a:cubicBez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5" name="Выноска-облако 23" descr=""/>
          <p:cNvPicPr/>
          <p:nvPr/>
        </p:nvPicPr>
        <p:blipFill>
          <a:blip r:embed="rId3"/>
          <a:stretch/>
        </p:blipFill>
        <p:spPr>
          <a:xfrm>
            <a:off x="7418520" y="3206880"/>
            <a:ext cx="1457280" cy="122544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25"/>
          <p:cNvSpPr/>
          <p:nvPr/>
        </p:nvSpPr>
        <p:spPr>
          <a:xfrm>
            <a:off x="6066000" y="6072120"/>
            <a:ext cx="150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+ Q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9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Рисунок 7" descr="Палитра художника 2.jpeg"/>
          <p:cNvPicPr/>
          <p:nvPr/>
        </p:nvPicPr>
        <p:blipFill>
          <a:blip r:embed="rId2"/>
          <a:stretch/>
        </p:blipFill>
        <p:spPr>
          <a:xfrm>
            <a:off x="2889360" y="2139840"/>
            <a:ext cx="3444840" cy="2438640"/>
          </a:xfrm>
          <a:prstGeom prst="rect">
            <a:avLst/>
          </a:prstGeom>
          <a:ln w="0">
            <a:noFill/>
          </a:ln>
        </p:spPr>
      </p:pic>
      <p:grpSp>
        <p:nvGrpSpPr>
          <p:cNvPr id="378" name="Овал 1"/>
          <p:cNvGrpSpPr/>
          <p:nvPr/>
        </p:nvGrpSpPr>
        <p:grpSpPr>
          <a:xfrm>
            <a:off x="4108320" y="822240"/>
            <a:ext cx="1067040" cy="1000080"/>
            <a:chOff x="4108320" y="822240"/>
            <a:chExt cx="1067040" cy="1000080"/>
          </a:xfrm>
        </p:grpSpPr>
        <p:pic>
          <p:nvPicPr>
            <p:cNvPr id="379" name="Овал 1" descr=""/>
            <p:cNvPicPr/>
            <p:nvPr/>
          </p:nvPicPr>
          <p:blipFill>
            <a:blip r:embed="rId3"/>
            <a:stretch/>
          </p:blipFill>
          <p:spPr>
            <a:xfrm>
              <a:off x="4108320" y="822240"/>
              <a:ext cx="1067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4289400" y="99360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Verdana"/>
                </a:rPr>
                <a:t>!</a:t>
              </a:r>
              <a:endParaRPr b="0" lang="en-US" sz="6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1" name="Овал 2"/>
          <p:cNvGrpSpPr/>
          <p:nvPr/>
        </p:nvGrpSpPr>
        <p:grpSpPr>
          <a:xfrm>
            <a:off x="4108320" y="5035680"/>
            <a:ext cx="1067040" cy="1000080"/>
            <a:chOff x="4108320" y="5035680"/>
            <a:chExt cx="1067040" cy="1000080"/>
          </a:xfrm>
        </p:grpSpPr>
        <p:pic>
          <p:nvPicPr>
            <p:cNvPr id="382" name="Овал 2" descr=""/>
            <p:cNvPicPr/>
            <p:nvPr/>
          </p:nvPicPr>
          <p:blipFill>
            <a:blip r:embed="rId4"/>
            <a:stretch/>
          </p:blipFill>
          <p:spPr>
            <a:xfrm>
              <a:off x="4108320" y="5035680"/>
              <a:ext cx="1067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4289400" y="520848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4" name="Овал 3"/>
          <p:cNvGrpSpPr/>
          <p:nvPr/>
        </p:nvGrpSpPr>
        <p:grpSpPr>
          <a:xfrm>
            <a:off x="1962000" y="1962000"/>
            <a:ext cx="1073160" cy="1000440"/>
            <a:chOff x="1962000" y="1962000"/>
            <a:chExt cx="1073160" cy="1000440"/>
          </a:xfrm>
        </p:grpSpPr>
        <p:pic>
          <p:nvPicPr>
            <p:cNvPr id="385" name="Овал 3" descr=""/>
            <p:cNvPicPr/>
            <p:nvPr/>
          </p:nvPicPr>
          <p:blipFill>
            <a:blip r:embed="rId5"/>
            <a:stretch/>
          </p:blipFill>
          <p:spPr>
            <a:xfrm>
              <a:off x="1962000" y="1962000"/>
              <a:ext cx="107316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2146320" y="213660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7" name="Овал 4"/>
          <p:cNvGrpSpPr/>
          <p:nvPr/>
        </p:nvGrpSpPr>
        <p:grpSpPr>
          <a:xfrm>
            <a:off x="6254640" y="1895400"/>
            <a:ext cx="1067040" cy="993960"/>
            <a:chOff x="6254640" y="1895400"/>
            <a:chExt cx="1067040" cy="993960"/>
          </a:xfrm>
        </p:grpSpPr>
        <p:pic>
          <p:nvPicPr>
            <p:cNvPr id="388" name="Овал 4" descr=""/>
            <p:cNvPicPr/>
            <p:nvPr/>
          </p:nvPicPr>
          <p:blipFill>
            <a:blip r:embed="rId6"/>
            <a:stretch/>
          </p:blipFill>
          <p:spPr>
            <a:xfrm>
              <a:off x="6254640" y="1895400"/>
              <a:ext cx="10670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6432480" y="2065320"/>
              <a:ext cx="70812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90" name="Овал 5"/>
          <p:cNvGrpSpPr/>
          <p:nvPr/>
        </p:nvGrpSpPr>
        <p:grpSpPr>
          <a:xfrm>
            <a:off x="1962000" y="3895560"/>
            <a:ext cx="1073160" cy="1000440"/>
            <a:chOff x="1962000" y="3895560"/>
            <a:chExt cx="1073160" cy="1000440"/>
          </a:xfrm>
        </p:grpSpPr>
        <p:pic>
          <p:nvPicPr>
            <p:cNvPr id="391" name="Овал 5" descr=""/>
            <p:cNvPicPr/>
            <p:nvPr/>
          </p:nvPicPr>
          <p:blipFill>
            <a:blip r:embed="rId7"/>
            <a:stretch/>
          </p:blipFill>
          <p:spPr>
            <a:xfrm>
              <a:off x="1962000" y="3895560"/>
              <a:ext cx="107316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2146320" y="406548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Verdana"/>
                </a:rPr>
                <a:t>!</a:t>
              </a:r>
              <a:endParaRPr b="0" lang="en-US" sz="6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93" name="Овал 6"/>
          <p:cNvGrpSpPr/>
          <p:nvPr/>
        </p:nvGrpSpPr>
        <p:grpSpPr>
          <a:xfrm>
            <a:off x="6254640" y="3895560"/>
            <a:ext cx="1067040" cy="1000440"/>
            <a:chOff x="6254640" y="3895560"/>
            <a:chExt cx="1067040" cy="1000440"/>
          </a:xfrm>
        </p:grpSpPr>
        <p:pic>
          <p:nvPicPr>
            <p:cNvPr id="394" name="Овал 6" descr=""/>
            <p:cNvPicPr/>
            <p:nvPr/>
          </p:nvPicPr>
          <p:blipFill>
            <a:blip r:embed="rId8"/>
            <a:stretch/>
          </p:blipFill>
          <p:spPr>
            <a:xfrm>
              <a:off x="6254640" y="3895560"/>
              <a:ext cx="106704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6432480" y="406548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Verdana"/>
                </a:rPr>
                <a:t>!</a:t>
              </a: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cxnSp>
        <p:nvCxnSpPr>
          <p:cNvPr id="396" name="Прямая со стрелкой 20"/>
          <p:cNvCxnSpPr/>
          <p:nvPr/>
        </p:nvCxnSpPr>
        <p:spPr>
          <a:xfrm flipV="1">
            <a:off x="2498760" y="2928600"/>
            <a:ext cx="2160" cy="100224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397" name="Прямая со стрелкой 22"/>
          <p:cNvCxnSpPr/>
          <p:nvPr/>
        </p:nvCxnSpPr>
        <p:spPr>
          <a:xfrm flipH="1">
            <a:off x="2854080" y="1320840"/>
            <a:ext cx="1289520" cy="81648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398" name="Прямая со стрелкой 24"/>
          <p:cNvCxnSpPr/>
          <p:nvPr/>
        </p:nvCxnSpPr>
        <p:spPr>
          <a:xfrm>
            <a:off x="5143680" y="1320840"/>
            <a:ext cx="1289520" cy="74520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399" name="Прямая со стрелкой 26"/>
          <p:cNvCxnSpPr/>
          <p:nvPr/>
        </p:nvCxnSpPr>
        <p:spPr>
          <a:xfrm flipV="1">
            <a:off x="6786720" y="2857680"/>
            <a:ext cx="2160" cy="107316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00" name="Прямая со стрелкой 28"/>
          <p:cNvCxnSpPr/>
          <p:nvPr/>
        </p:nvCxnSpPr>
        <p:spPr>
          <a:xfrm flipH="1">
            <a:off x="5143320" y="4721400"/>
            <a:ext cx="1289520" cy="81648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01" name="Прямая со стрелкой 30"/>
          <p:cNvCxnSpPr/>
          <p:nvPr/>
        </p:nvCxnSpPr>
        <p:spPr>
          <a:xfrm>
            <a:off x="2854440" y="4721400"/>
            <a:ext cx="1289520" cy="81648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402" name="TextBox 25"/>
          <p:cNvSpPr/>
          <p:nvPr/>
        </p:nvSpPr>
        <p:spPr>
          <a:xfrm>
            <a:off x="2143080" y="71280"/>
            <a:ext cx="4857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Эро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ихийная, восторженна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TextBox 27"/>
          <p:cNvSpPr/>
          <p:nvPr/>
        </p:nvSpPr>
        <p:spPr>
          <a:xfrm>
            <a:off x="1500120" y="5965920"/>
            <a:ext cx="6286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агм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ассудочная, реалистичная, практична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TextBox 29"/>
          <p:cNvSpPr/>
          <p:nvPr/>
        </p:nvSpPr>
        <p:spPr>
          <a:xfrm>
            <a:off x="71280" y="1228680"/>
            <a:ext cx="22147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вязчивая, болезненная стра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TextBox 31"/>
          <p:cNvSpPr/>
          <p:nvPr/>
        </p:nvSpPr>
        <p:spPr>
          <a:xfrm>
            <a:off x="0" y="4643280"/>
            <a:ext cx="242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юду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юбовь–иг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TextBox 32"/>
          <p:cNvSpPr/>
          <p:nvPr/>
        </p:nvSpPr>
        <p:spPr>
          <a:xfrm>
            <a:off x="6215040" y="4714920"/>
            <a:ext cx="3000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торгэ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юбовь–неж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TextBox 33"/>
          <p:cNvSpPr/>
          <p:nvPr/>
        </p:nvSpPr>
        <p:spPr>
          <a:xfrm>
            <a:off x="6929280" y="1071720"/>
            <a:ext cx="235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гапэ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жертвенная, бескорыстна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88" nodeType="after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92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100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Прямоугольник 2" descr=""/>
          <p:cNvPicPr/>
          <p:nvPr/>
        </p:nvPicPr>
        <p:blipFill>
          <a:blip r:embed="rId1"/>
          <a:stretch/>
        </p:blipFill>
        <p:spPr>
          <a:xfrm>
            <a:off x="858960" y="1859040"/>
            <a:ext cx="7426080" cy="1908000"/>
          </a:xfrm>
          <a:prstGeom prst="rect">
            <a:avLst/>
          </a:prstGeom>
          <a:ln w="0">
            <a:noFill/>
          </a:ln>
        </p:spPr>
      </p:pic>
      <p:sp>
        <p:nvSpPr>
          <p:cNvPr id="409" name="TextBox 3"/>
          <p:cNvSpPr/>
          <p:nvPr/>
        </p:nvSpPr>
        <p:spPr>
          <a:xfrm>
            <a:off x="857160" y="285840"/>
            <a:ext cx="72867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Verdana"/>
              </a:rPr>
              <a:t>Эрос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тихийная, восторженная любов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Цилиндр 7"/>
          <p:cNvSpPr/>
          <p:nvPr/>
        </p:nvSpPr>
        <p:spPr>
          <a:xfrm>
            <a:off x="7429680" y="5143680"/>
            <a:ext cx="571320" cy="1428480"/>
          </a:xfrm>
          <a:prstGeom prst="can">
            <a:avLst>
              <a:gd name="adj" fmla="val 10000"/>
            </a:avLst>
          </a:prstGeom>
          <a:solidFill>
            <a:srgbClr val="ff000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Цилиндр 20"/>
          <p:cNvSpPr/>
          <p:nvPr/>
        </p:nvSpPr>
        <p:spPr>
          <a:xfrm>
            <a:off x="7429680" y="3857760"/>
            <a:ext cx="571320" cy="142848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Цилиндр 27"/>
          <p:cNvSpPr/>
          <p:nvPr/>
        </p:nvSpPr>
        <p:spPr>
          <a:xfrm>
            <a:off x="1357200" y="3857760"/>
            <a:ext cx="571680" cy="142848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Цилиндр 29"/>
          <p:cNvSpPr/>
          <p:nvPr/>
        </p:nvSpPr>
        <p:spPr>
          <a:xfrm>
            <a:off x="1357200" y="5143680"/>
            <a:ext cx="571680" cy="1428480"/>
          </a:xfrm>
          <a:prstGeom prst="can">
            <a:avLst>
              <a:gd name="adj" fmla="val 10000"/>
            </a:avLst>
          </a:prstGeom>
          <a:solidFill>
            <a:srgbClr val="ffc00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TextBox 30"/>
          <p:cNvSpPr/>
          <p:nvPr/>
        </p:nvSpPr>
        <p:spPr>
          <a:xfrm>
            <a:off x="2143080" y="5715000"/>
            <a:ext cx="1500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Fe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TextBox 34"/>
          <p:cNvSpPr/>
          <p:nvPr/>
        </p:nvSpPr>
        <p:spPr>
          <a:xfrm>
            <a:off x="0" y="307188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KSC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Стрелка углом 36"/>
          <p:cNvSpPr/>
          <p:nvPr/>
        </p:nvSpPr>
        <p:spPr>
          <a:xfrm rot="5400000">
            <a:off x="1071360" y="3571920"/>
            <a:ext cx="571320" cy="857160"/>
          </a:xfrm>
          <a:custGeom>
            <a:avLst/>
            <a:gdLst/>
            <a:ahLst/>
            <a:rect l="l" t="t" r="r" b="b"/>
            <a:pathLst>
              <a:path w="571500" h="857250">
                <a:moveTo>
                  <a:pt x="0" y="857250"/>
                </a:moveTo>
                <a:lnTo>
                  <a:pt x="0" y="321469"/>
                </a:lnTo>
                <a:cubicBezTo>
                  <a:pt x="0" y="183381"/>
                  <a:pt x="111943" y="71438"/>
                  <a:pt x="250031" y="71438"/>
                </a:cubicBezTo>
                <a:lnTo>
                  <a:pt x="419515" y="71438"/>
                </a:lnTo>
                <a:lnTo>
                  <a:pt x="419515" y="0"/>
                </a:lnTo>
                <a:lnTo>
                  <a:pt x="571500" y="142875"/>
                </a:lnTo>
                <a:lnTo>
                  <a:pt x="419515" y="285750"/>
                </a:lnTo>
                <a:lnTo>
                  <a:pt x="419515" y="214313"/>
                </a:lnTo>
                <a:lnTo>
                  <a:pt x="250031" y="214313"/>
                </a:lnTo>
                <a:cubicBezTo>
                  <a:pt x="190850" y="214313"/>
                  <a:pt x="142875" y="262288"/>
                  <a:pt x="142875" y="321469"/>
                </a:cubicBezTo>
                <a:lnTo>
                  <a:pt x="142875" y="857250"/>
                </a:lnTo>
                <a:lnTo>
                  <a:pt x="0" y="857250"/>
                </a:lnTo>
                <a:close/>
              </a:path>
            </a:pathLst>
          </a:custGeom>
          <a:solidFill>
            <a:srgbClr val="262626"/>
          </a:solidFill>
          <a:ln cap="rnd" w="1908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Стрелка вправо 37"/>
          <p:cNvSpPr/>
          <p:nvPr/>
        </p:nvSpPr>
        <p:spPr>
          <a:xfrm>
            <a:off x="3714840" y="5000760"/>
            <a:ext cx="2071440" cy="285480"/>
          </a:xfrm>
          <a:prstGeom prst="rightArrow">
            <a:avLst>
              <a:gd name="adj1" fmla="val 50000"/>
              <a:gd name="adj2" fmla="val 50053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8" name="TextBox 39" descr=""/>
          <p:cNvPicPr/>
          <p:nvPr/>
        </p:nvPicPr>
        <p:blipFill>
          <a:blip r:embed="rId2"/>
          <a:stretch/>
        </p:blipFill>
        <p:spPr>
          <a:xfrm>
            <a:off x="4846680" y="5419800"/>
            <a:ext cx="2511360" cy="858600"/>
          </a:xfrm>
          <a:prstGeom prst="rect">
            <a:avLst/>
          </a:prstGeom>
          <a:ln w="0">
            <a:noFill/>
          </a:ln>
        </p:spPr>
      </p:pic>
      <p:pic>
        <p:nvPicPr>
          <p:cNvPr id="419" name="TextBox 40" descr=""/>
          <p:cNvPicPr/>
          <p:nvPr/>
        </p:nvPicPr>
        <p:blipFill>
          <a:blip r:embed="rId3"/>
          <a:stretch/>
        </p:blipFill>
        <p:spPr>
          <a:xfrm>
            <a:off x="6119640" y="5950080"/>
            <a:ext cx="1451160" cy="645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Box 3"/>
          <p:cNvSpPr/>
          <p:nvPr/>
        </p:nvSpPr>
        <p:spPr>
          <a:xfrm>
            <a:off x="857160" y="214200"/>
            <a:ext cx="72867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Verdana"/>
              </a:rPr>
              <a:t>Сторгэ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юбовь  как  неж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Цилиндр 26"/>
          <p:cNvSpPr/>
          <p:nvPr/>
        </p:nvSpPr>
        <p:spPr>
          <a:xfrm>
            <a:off x="7358040" y="3857760"/>
            <a:ext cx="571680" cy="142848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Цилиндр 27"/>
          <p:cNvSpPr/>
          <p:nvPr/>
        </p:nvSpPr>
        <p:spPr>
          <a:xfrm>
            <a:off x="1214280" y="3929040"/>
            <a:ext cx="571680" cy="142884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Цилиндр 28"/>
          <p:cNvSpPr/>
          <p:nvPr/>
        </p:nvSpPr>
        <p:spPr>
          <a:xfrm>
            <a:off x="7358040" y="5143680"/>
            <a:ext cx="571680" cy="1428480"/>
          </a:xfrm>
          <a:prstGeom prst="can">
            <a:avLst>
              <a:gd name="adj" fmla="val 10000"/>
            </a:avLst>
          </a:prstGeom>
          <a:solidFill>
            <a:srgbClr val="007eea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Цилиндр 29"/>
          <p:cNvSpPr/>
          <p:nvPr/>
        </p:nvSpPr>
        <p:spPr>
          <a:xfrm>
            <a:off x="1214280" y="5214960"/>
            <a:ext cx="571680" cy="1428840"/>
          </a:xfrm>
          <a:prstGeom prst="can">
            <a:avLst>
              <a:gd name="adj" fmla="val 10000"/>
            </a:avLst>
          </a:prstGeom>
          <a:solidFill>
            <a:srgbClr val="a7d6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Box 12"/>
          <p:cNvSpPr/>
          <p:nvPr/>
        </p:nvSpPr>
        <p:spPr>
          <a:xfrm>
            <a:off x="214200" y="1643040"/>
            <a:ext cx="892980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uS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 + 2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NaOH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Cu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OH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Na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u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+ 2 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Cu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Стрелка вправо 22"/>
          <p:cNvSpPr/>
          <p:nvPr/>
        </p:nvSpPr>
        <p:spPr>
          <a:xfrm>
            <a:off x="3500280" y="5072040"/>
            <a:ext cx="2509920" cy="27612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Стрелка углом 24"/>
          <p:cNvSpPr/>
          <p:nvPr/>
        </p:nvSpPr>
        <p:spPr>
          <a:xfrm rot="5400000">
            <a:off x="785160" y="3357360"/>
            <a:ext cx="571680" cy="1143000"/>
          </a:xfrm>
          <a:custGeom>
            <a:avLst/>
            <a:gdLst/>
            <a:ahLst/>
            <a:rect l="l" t="t" r="r" b="b"/>
            <a:pathLst>
              <a:path w="571500" h="1143000">
                <a:moveTo>
                  <a:pt x="0" y="1143000"/>
                </a:moveTo>
                <a:lnTo>
                  <a:pt x="0" y="321469"/>
                </a:lnTo>
                <a:cubicBezTo>
                  <a:pt x="0" y="183381"/>
                  <a:pt x="111943" y="71438"/>
                  <a:pt x="250031" y="71438"/>
                </a:cubicBezTo>
                <a:lnTo>
                  <a:pt x="419515" y="71438"/>
                </a:lnTo>
                <a:lnTo>
                  <a:pt x="419515" y="0"/>
                </a:lnTo>
                <a:lnTo>
                  <a:pt x="571500" y="142875"/>
                </a:lnTo>
                <a:lnTo>
                  <a:pt x="419515" y="285750"/>
                </a:lnTo>
                <a:lnTo>
                  <a:pt x="419515" y="214313"/>
                </a:lnTo>
                <a:lnTo>
                  <a:pt x="250031" y="214313"/>
                </a:lnTo>
                <a:cubicBezTo>
                  <a:pt x="190850" y="214313"/>
                  <a:pt x="142875" y="262288"/>
                  <a:pt x="142875" y="321469"/>
                </a:cubicBezTo>
                <a:lnTo>
                  <a:pt x="142875" y="1143000"/>
                </a:lnTo>
                <a:lnTo>
                  <a:pt x="0" y="1143000"/>
                </a:lnTo>
                <a:close/>
              </a:path>
            </a:pathLst>
          </a:custGeom>
          <a:solidFill>
            <a:srgbClr val="262626"/>
          </a:solidFill>
          <a:ln cap="rnd" w="1908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TextBox 30"/>
          <p:cNvSpPr/>
          <p:nvPr/>
        </p:nvSpPr>
        <p:spPr>
          <a:xfrm>
            <a:off x="1928880" y="5857920"/>
            <a:ext cx="1928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uS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9" name="TextBox 31" descr=""/>
          <p:cNvPicPr/>
          <p:nvPr/>
        </p:nvPicPr>
        <p:blipFill>
          <a:blip r:embed="rId1"/>
          <a:stretch/>
        </p:blipFill>
        <p:spPr>
          <a:xfrm>
            <a:off x="4700520" y="5705640"/>
            <a:ext cx="2370240" cy="860400"/>
          </a:xfrm>
          <a:prstGeom prst="rect">
            <a:avLst/>
          </a:prstGeom>
          <a:ln w="0">
            <a:noFill/>
          </a:ln>
        </p:spPr>
      </p:pic>
      <p:sp>
        <p:nvSpPr>
          <p:cNvPr id="430" name="TextBox 33"/>
          <p:cNvSpPr/>
          <p:nvPr/>
        </p:nvSpPr>
        <p:spPr>
          <a:xfrm>
            <a:off x="4714920" y="4143240"/>
            <a:ext cx="1500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Стрелка вниз 35"/>
          <p:cNvSpPr/>
          <p:nvPr/>
        </p:nvSpPr>
        <p:spPr>
          <a:xfrm>
            <a:off x="7000920" y="5786280"/>
            <a:ext cx="214200" cy="57168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7eea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TextBox 36"/>
          <p:cNvSpPr/>
          <p:nvPr/>
        </p:nvSpPr>
        <p:spPr>
          <a:xfrm>
            <a:off x="214200" y="285768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NaO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TextBox 3" descr=""/>
          <p:cNvPicPr/>
          <p:nvPr/>
        </p:nvPicPr>
        <p:blipFill>
          <a:blip r:embed="rId1"/>
          <a:stretch/>
        </p:blipFill>
        <p:spPr>
          <a:xfrm>
            <a:off x="858960" y="85680"/>
            <a:ext cx="7284960" cy="1523880"/>
          </a:xfrm>
          <a:prstGeom prst="rect">
            <a:avLst/>
          </a:prstGeom>
          <a:ln w="0">
            <a:noFill/>
          </a:ln>
        </p:spPr>
      </p:pic>
      <p:sp>
        <p:nvSpPr>
          <p:cNvPr id="434" name="Цилиндр 26"/>
          <p:cNvSpPr/>
          <p:nvPr/>
        </p:nvSpPr>
        <p:spPr>
          <a:xfrm>
            <a:off x="7358040" y="3857760"/>
            <a:ext cx="571680" cy="142848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Цилиндр 27"/>
          <p:cNvSpPr/>
          <p:nvPr/>
        </p:nvSpPr>
        <p:spPr>
          <a:xfrm>
            <a:off x="1214280" y="3929040"/>
            <a:ext cx="571680" cy="142884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Цилиндр 28"/>
          <p:cNvSpPr/>
          <p:nvPr/>
        </p:nvSpPr>
        <p:spPr>
          <a:xfrm>
            <a:off x="7358040" y="5143680"/>
            <a:ext cx="571680" cy="1428480"/>
          </a:xfrm>
          <a:prstGeom prst="can">
            <a:avLst>
              <a:gd name="adj" fmla="val 10000"/>
            </a:avLst>
          </a:prstGeom>
          <a:solidFill>
            <a:srgbClr val="ffff0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Цилиндр 29"/>
          <p:cNvSpPr/>
          <p:nvPr/>
        </p:nvSpPr>
        <p:spPr>
          <a:xfrm>
            <a:off x="1214280" y="5214960"/>
            <a:ext cx="571680" cy="142884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TextBox 12"/>
          <p:cNvSpPr/>
          <p:nvPr/>
        </p:nvSpPr>
        <p:spPr>
          <a:xfrm>
            <a:off x="0" y="1643040"/>
            <a:ext cx="914400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3Ag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+ N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+ 3Na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3 Ag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+ P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Стрелка вправо 22"/>
          <p:cNvSpPr/>
          <p:nvPr/>
        </p:nvSpPr>
        <p:spPr>
          <a:xfrm>
            <a:off x="3500280" y="5072040"/>
            <a:ext cx="2509920" cy="27612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Стрелка углом 24"/>
          <p:cNvSpPr/>
          <p:nvPr/>
        </p:nvSpPr>
        <p:spPr>
          <a:xfrm rot="5400000">
            <a:off x="785160" y="3357360"/>
            <a:ext cx="571680" cy="1143000"/>
          </a:xfrm>
          <a:custGeom>
            <a:avLst/>
            <a:gdLst/>
            <a:ahLst/>
            <a:rect l="l" t="t" r="r" b="b"/>
            <a:pathLst>
              <a:path w="571500" h="1143000">
                <a:moveTo>
                  <a:pt x="0" y="1143000"/>
                </a:moveTo>
                <a:lnTo>
                  <a:pt x="0" y="321469"/>
                </a:lnTo>
                <a:cubicBezTo>
                  <a:pt x="0" y="183381"/>
                  <a:pt x="111943" y="71438"/>
                  <a:pt x="250031" y="71438"/>
                </a:cubicBezTo>
                <a:lnTo>
                  <a:pt x="419515" y="71438"/>
                </a:lnTo>
                <a:lnTo>
                  <a:pt x="419515" y="0"/>
                </a:lnTo>
                <a:lnTo>
                  <a:pt x="571500" y="142875"/>
                </a:lnTo>
                <a:lnTo>
                  <a:pt x="419515" y="285750"/>
                </a:lnTo>
                <a:lnTo>
                  <a:pt x="419515" y="214313"/>
                </a:lnTo>
                <a:lnTo>
                  <a:pt x="250031" y="214313"/>
                </a:lnTo>
                <a:cubicBezTo>
                  <a:pt x="190850" y="214313"/>
                  <a:pt x="142875" y="262288"/>
                  <a:pt x="142875" y="321469"/>
                </a:cubicBezTo>
                <a:lnTo>
                  <a:pt x="142875" y="1143000"/>
                </a:lnTo>
                <a:lnTo>
                  <a:pt x="0" y="1143000"/>
                </a:lnTo>
                <a:close/>
              </a:path>
            </a:pathLst>
          </a:custGeom>
          <a:solidFill>
            <a:srgbClr val="262626"/>
          </a:solidFill>
          <a:ln cap="rnd" w="1908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TextBox 30"/>
          <p:cNvSpPr/>
          <p:nvPr/>
        </p:nvSpPr>
        <p:spPr>
          <a:xfrm>
            <a:off x="1928880" y="5929200"/>
            <a:ext cx="2000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N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2" name="TextBox 31" descr=""/>
          <p:cNvPicPr/>
          <p:nvPr/>
        </p:nvPicPr>
        <p:blipFill>
          <a:blip r:embed="rId2"/>
          <a:stretch/>
        </p:blipFill>
        <p:spPr>
          <a:xfrm>
            <a:off x="4986360" y="5778360"/>
            <a:ext cx="2043000" cy="860400"/>
          </a:xfrm>
          <a:prstGeom prst="rect">
            <a:avLst/>
          </a:prstGeom>
          <a:ln w="0">
            <a:noFill/>
          </a:ln>
        </p:spPr>
      </p:pic>
      <p:sp>
        <p:nvSpPr>
          <p:cNvPr id="443" name="TextBox 33"/>
          <p:cNvSpPr/>
          <p:nvPr/>
        </p:nvSpPr>
        <p:spPr>
          <a:xfrm>
            <a:off x="4714920" y="4143240"/>
            <a:ext cx="1500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Стрелка вниз 35"/>
          <p:cNvSpPr/>
          <p:nvPr/>
        </p:nvSpPr>
        <p:spPr>
          <a:xfrm>
            <a:off x="7000920" y="5857920"/>
            <a:ext cx="2142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ff0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TextBox 36"/>
          <p:cNvSpPr/>
          <p:nvPr/>
        </p:nvSpPr>
        <p:spPr>
          <a:xfrm>
            <a:off x="0" y="2928960"/>
            <a:ext cx="1714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Ag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10:26:54Z</dcterms:created>
  <dc:creator>User</dc:creator>
  <dc:description/>
  <dc:language>en-US</dc:language>
  <cp:lastModifiedBy>Школа</cp:lastModifiedBy>
  <dcterms:modified xsi:type="dcterms:W3CDTF">2018-04-30T10:06:59Z</dcterms:modified>
  <cp:revision>65</cp:revision>
  <dc:subject/>
  <dc:title>Презентация PowerPoint</dc:title>
</cp:coreProperties>
</file>